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BEB-23DC-4C1B-B7F3-E46DA357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66E-93DE-4669-BDC5-3D88BE1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D05-9C9D-4787-9BC5-4E02F177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4A7-19A4-4D5D-82BB-303B743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FF0-9DC9-46CA-9D26-70A9BB05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782-3949-458F-9529-AE05C0E3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BC4-C7D3-413B-89DD-032F991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FD1-826C-4EC1-97E5-972F4E5A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1C5-F642-439E-96BD-D1949D4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C85-91A1-4ACB-8BD3-B43D1F0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D19-3F41-4ADC-9B6B-2BCFFD9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18-5A96-4B67-B8E5-4D568F0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B1DA4542-3AD2-480B-8BAA-6A3F5D0DDDD6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25080" y="106668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859000" cy="32918400"/>
          </a:xfrm>
          <a:custGeom>
            <a:avLst/>
            <a:gdLst>
              <a:gd name="textAreaLeft" fmla="*/ 0 w 14859000"/>
              <a:gd name="textAreaRight" fmla="*/ 14859360 w 14859000"/>
              <a:gd name="textAreaTop" fmla="*/ 0 h 32918400"/>
              <a:gd name="textAreaBottom" fmla="*/ 32918760 h 3291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68" y="0"/>
                </a:lnTo>
                <a:lnTo>
                  <a:pt x="21600" y="10800"/>
                </a:lnTo>
                <a:lnTo>
                  <a:pt x="104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254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857040" y="6934320"/>
            <a:ext cx="18689760" cy="23545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3832800" y="6172200"/>
            <a:ext cx="9523440" cy="8304480"/>
            <a:chOff x="33832800" y="6172200"/>
            <a:chExt cx="9523440" cy="83044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0" t="0" r="8947" b="0"/>
            <a:stretch/>
          </p:blipFill>
          <p:spPr>
            <a:xfrm>
              <a:off x="33832800" y="7028640"/>
              <a:ext cx="8486280" cy="74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4358040" y="6172200"/>
              <a:ext cx="75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011520" y="8248320"/>
              <a:ext cx="6825240" cy="5822280"/>
            </a:xfrm>
            <a:custGeom>
              <a:avLst/>
              <a:gdLst/>
              <a:ahLst/>
              <a:rect l="l" t="t" r="r" b="b"/>
              <a:pathLst>
                <a:path w="1040" h="1088">
                  <a:moveTo>
                    <a:pt x="951" y="1088"/>
                  </a:moveTo>
                  <a:cubicBezTo>
                    <a:pt x="941" y="1050"/>
                    <a:pt x="918" y="1024"/>
                    <a:pt x="911" y="984"/>
                  </a:cubicBezTo>
                  <a:cubicBezTo>
                    <a:pt x="904" y="943"/>
                    <a:pt x="901" y="922"/>
                    <a:pt x="879" y="888"/>
                  </a:cubicBezTo>
                  <a:cubicBezTo>
                    <a:pt x="865" y="832"/>
                    <a:pt x="871" y="848"/>
                    <a:pt x="831" y="808"/>
                  </a:cubicBezTo>
                  <a:cubicBezTo>
                    <a:pt x="818" y="795"/>
                    <a:pt x="820" y="773"/>
                    <a:pt x="807" y="760"/>
                  </a:cubicBezTo>
                  <a:cubicBezTo>
                    <a:pt x="776" y="729"/>
                    <a:pt x="713" y="698"/>
                    <a:pt x="671" y="688"/>
                  </a:cubicBezTo>
                  <a:cubicBezTo>
                    <a:pt x="635" y="700"/>
                    <a:pt x="631" y="723"/>
                    <a:pt x="607" y="752"/>
                  </a:cubicBezTo>
                  <a:cubicBezTo>
                    <a:pt x="564" y="803"/>
                    <a:pt x="605" y="752"/>
                    <a:pt x="551" y="792"/>
                  </a:cubicBezTo>
                  <a:cubicBezTo>
                    <a:pt x="539" y="801"/>
                    <a:pt x="531" y="815"/>
                    <a:pt x="519" y="824"/>
                  </a:cubicBezTo>
                  <a:cubicBezTo>
                    <a:pt x="504" y="836"/>
                    <a:pt x="487" y="845"/>
                    <a:pt x="471" y="856"/>
                  </a:cubicBezTo>
                  <a:cubicBezTo>
                    <a:pt x="463" y="861"/>
                    <a:pt x="447" y="872"/>
                    <a:pt x="447" y="872"/>
                  </a:cubicBezTo>
                  <a:cubicBezTo>
                    <a:pt x="428" y="930"/>
                    <a:pt x="447" y="858"/>
                    <a:pt x="447" y="928"/>
                  </a:cubicBezTo>
                  <a:cubicBezTo>
                    <a:pt x="447" y="936"/>
                    <a:pt x="441" y="912"/>
                    <a:pt x="439" y="904"/>
                  </a:cubicBezTo>
                  <a:cubicBezTo>
                    <a:pt x="436" y="893"/>
                    <a:pt x="434" y="883"/>
                    <a:pt x="431" y="872"/>
                  </a:cubicBezTo>
                  <a:cubicBezTo>
                    <a:pt x="434" y="800"/>
                    <a:pt x="435" y="728"/>
                    <a:pt x="439" y="656"/>
                  </a:cubicBezTo>
                  <a:cubicBezTo>
                    <a:pt x="440" y="640"/>
                    <a:pt x="443" y="624"/>
                    <a:pt x="447" y="608"/>
                  </a:cubicBezTo>
                  <a:cubicBezTo>
                    <a:pt x="451" y="592"/>
                    <a:pt x="463" y="560"/>
                    <a:pt x="463" y="560"/>
                  </a:cubicBezTo>
                  <a:cubicBezTo>
                    <a:pt x="467" y="514"/>
                    <a:pt x="457" y="464"/>
                    <a:pt x="479" y="424"/>
                  </a:cubicBezTo>
                  <a:cubicBezTo>
                    <a:pt x="502" y="383"/>
                    <a:pt x="525" y="343"/>
                    <a:pt x="551" y="304"/>
                  </a:cubicBezTo>
                  <a:cubicBezTo>
                    <a:pt x="607" y="221"/>
                    <a:pt x="541" y="356"/>
                    <a:pt x="599" y="240"/>
                  </a:cubicBezTo>
                  <a:cubicBezTo>
                    <a:pt x="618" y="202"/>
                    <a:pt x="625" y="153"/>
                    <a:pt x="639" y="112"/>
                  </a:cubicBezTo>
                  <a:cubicBezTo>
                    <a:pt x="642" y="93"/>
                    <a:pt x="644" y="75"/>
                    <a:pt x="647" y="56"/>
                  </a:cubicBezTo>
                  <a:cubicBezTo>
                    <a:pt x="649" y="40"/>
                    <a:pt x="661" y="23"/>
                    <a:pt x="655" y="8"/>
                  </a:cubicBezTo>
                  <a:cubicBezTo>
                    <a:pt x="652" y="0"/>
                    <a:pt x="639" y="13"/>
                    <a:pt x="631" y="16"/>
                  </a:cubicBezTo>
                  <a:cubicBezTo>
                    <a:pt x="607" y="53"/>
                    <a:pt x="594" y="92"/>
                    <a:pt x="567" y="128"/>
                  </a:cubicBezTo>
                  <a:cubicBezTo>
                    <a:pt x="554" y="167"/>
                    <a:pt x="534" y="202"/>
                    <a:pt x="519" y="240"/>
                  </a:cubicBezTo>
                  <a:cubicBezTo>
                    <a:pt x="513" y="256"/>
                    <a:pt x="503" y="288"/>
                    <a:pt x="503" y="288"/>
                  </a:cubicBezTo>
                  <a:cubicBezTo>
                    <a:pt x="500" y="309"/>
                    <a:pt x="499" y="331"/>
                    <a:pt x="495" y="352"/>
                  </a:cubicBezTo>
                  <a:cubicBezTo>
                    <a:pt x="493" y="360"/>
                    <a:pt x="488" y="368"/>
                    <a:pt x="487" y="376"/>
                  </a:cubicBezTo>
                  <a:cubicBezTo>
                    <a:pt x="478" y="427"/>
                    <a:pt x="481" y="480"/>
                    <a:pt x="463" y="528"/>
                  </a:cubicBezTo>
                  <a:cubicBezTo>
                    <a:pt x="455" y="548"/>
                    <a:pt x="439" y="564"/>
                    <a:pt x="431" y="584"/>
                  </a:cubicBezTo>
                  <a:cubicBezTo>
                    <a:pt x="425" y="600"/>
                    <a:pt x="415" y="632"/>
                    <a:pt x="415" y="632"/>
                  </a:cubicBezTo>
                  <a:cubicBezTo>
                    <a:pt x="429" y="713"/>
                    <a:pt x="426" y="672"/>
                    <a:pt x="415" y="792"/>
                  </a:cubicBezTo>
                  <a:cubicBezTo>
                    <a:pt x="410" y="845"/>
                    <a:pt x="399" y="952"/>
                    <a:pt x="399" y="952"/>
                  </a:cubicBezTo>
                  <a:cubicBezTo>
                    <a:pt x="402" y="965"/>
                    <a:pt x="407" y="1006"/>
                    <a:pt x="407" y="992"/>
                  </a:cubicBezTo>
                  <a:cubicBezTo>
                    <a:pt x="407" y="976"/>
                    <a:pt x="405" y="959"/>
                    <a:pt x="399" y="944"/>
                  </a:cubicBezTo>
                  <a:cubicBezTo>
                    <a:pt x="385" y="910"/>
                    <a:pt x="350" y="870"/>
                    <a:pt x="327" y="840"/>
                  </a:cubicBezTo>
                  <a:cubicBezTo>
                    <a:pt x="306" y="714"/>
                    <a:pt x="285" y="598"/>
                    <a:pt x="191" y="504"/>
                  </a:cubicBezTo>
                  <a:cubicBezTo>
                    <a:pt x="180" y="472"/>
                    <a:pt x="171" y="459"/>
                    <a:pt x="143" y="440"/>
                  </a:cubicBezTo>
                  <a:cubicBezTo>
                    <a:pt x="130" y="402"/>
                    <a:pt x="88" y="374"/>
                    <a:pt x="55" y="352"/>
                  </a:cubicBezTo>
                  <a:cubicBezTo>
                    <a:pt x="18" y="279"/>
                    <a:pt x="46" y="336"/>
                    <a:pt x="55" y="344"/>
                  </a:cubicBezTo>
                  <a:cubicBezTo>
                    <a:pt x="69" y="355"/>
                    <a:pt x="88" y="358"/>
                    <a:pt x="103" y="368"/>
                  </a:cubicBezTo>
                  <a:cubicBezTo>
                    <a:pt x="122" y="397"/>
                    <a:pt x="142" y="423"/>
                    <a:pt x="167" y="448"/>
                  </a:cubicBezTo>
                  <a:cubicBezTo>
                    <a:pt x="172" y="464"/>
                    <a:pt x="184" y="501"/>
                    <a:pt x="191" y="512"/>
                  </a:cubicBezTo>
                  <a:cubicBezTo>
                    <a:pt x="235" y="583"/>
                    <a:pt x="197" y="493"/>
                    <a:pt x="231" y="560"/>
                  </a:cubicBezTo>
                  <a:cubicBezTo>
                    <a:pt x="253" y="604"/>
                    <a:pt x="260" y="627"/>
                    <a:pt x="303" y="648"/>
                  </a:cubicBezTo>
                  <a:cubicBezTo>
                    <a:pt x="318" y="686"/>
                    <a:pt x="343" y="723"/>
                    <a:pt x="383" y="736"/>
                  </a:cubicBezTo>
                  <a:cubicBezTo>
                    <a:pt x="400" y="770"/>
                    <a:pt x="415" y="787"/>
                    <a:pt x="447" y="808"/>
                  </a:cubicBezTo>
                  <a:cubicBezTo>
                    <a:pt x="464" y="834"/>
                    <a:pt x="485" y="850"/>
                    <a:pt x="495" y="880"/>
                  </a:cubicBezTo>
                  <a:cubicBezTo>
                    <a:pt x="489" y="941"/>
                    <a:pt x="493" y="963"/>
                    <a:pt x="463" y="1008"/>
                  </a:cubicBezTo>
                  <a:cubicBezTo>
                    <a:pt x="466" y="979"/>
                    <a:pt x="471" y="949"/>
                    <a:pt x="471" y="920"/>
                  </a:cubicBezTo>
                  <a:cubicBezTo>
                    <a:pt x="471" y="912"/>
                    <a:pt x="462" y="904"/>
                    <a:pt x="463" y="896"/>
                  </a:cubicBezTo>
                  <a:cubicBezTo>
                    <a:pt x="467" y="857"/>
                    <a:pt x="497" y="804"/>
                    <a:pt x="527" y="784"/>
                  </a:cubicBezTo>
                  <a:cubicBezTo>
                    <a:pt x="532" y="776"/>
                    <a:pt x="571" y="716"/>
                    <a:pt x="583" y="704"/>
                  </a:cubicBezTo>
                  <a:cubicBezTo>
                    <a:pt x="636" y="651"/>
                    <a:pt x="715" y="661"/>
                    <a:pt x="783" y="656"/>
                  </a:cubicBezTo>
                  <a:cubicBezTo>
                    <a:pt x="829" y="610"/>
                    <a:pt x="802" y="632"/>
                    <a:pt x="863" y="592"/>
                  </a:cubicBezTo>
                  <a:cubicBezTo>
                    <a:pt x="871" y="587"/>
                    <a:pt x="887" y="576"/>
                    <a:pt x="887" y="576"/>
                  </a:cubicBezTo>
                  <a:cubicBezTo>
                    <a:pt x="899" y="541"/>
                    <a:pt x="910" y="508"/>
                    <a:pt x="919" y="472"/>
                  </a:cubicBezTo>
                  <a:cubicBezTo>
                    <a:pt x="919" y="438"/>
                    <a:pt x="919" y="497"/>
                    <a:pt x="911" y="528"/>
                  </a:cubicBezTo>
                  <a:cubicBezTo>
                    <a:pt x="904" y="554"/>
                    <a:pt x="880" y="559"/>
                    <a:pt x="863" y="576"/>
                  </a:cubicBezTo>
                  <a:cubicBezTo>
                    <a:pt x="837" y="602"/>
                    <a:pt x="859" y="607"/>
                    <a:pt x="815" y="624"/>
                  </a:cubicBezTo>
                  <a:cubicBezTo>
                    <a:pt x="772" y="641"/>
                    <a:pt x="711" y="637"/>
                    <a:pt x="671" y="664"/>
                  </a:cubicBezTo>
                  <a:cubicBezTo>
                    <a:pt x="581" y="724"/>
                    <a:pt x="475" y="805"/>
                    <a:pt x="439" y="912"/>
                  </a:cubicBezTo>
                  <a:cubicBezTo>
                    <a:pt x="447" y="853"/>
                    <a:pt x="452" y="842"/>
                    <a:pt x="487" y="800"/>
                  </a:cubicBezTo>
                  <a:cubicBezTo>
                    <a:pt x="493" y="793"/>
                    <a:pt x="494" y="780"/>
                    <a:pt x="503" y="776"/>
                  </a:cubicBezTo>
                  <a:cubicBezTo>
                    <a:pt x="528" y="766"/>
                    <a:pt x="557" y="769"/>
                    <a:pt x="583" y="760"/>
                  </a:cubicBezTo>
                  <a:cubicBezTo>
                    <a:pt x="607" y="752"/>
                    <a:pt x="631" y="744"/>
                    <a:pt x="655" y="736"/>
                  </a:cubicBezTo>
                  <a:cubicBezTo>
                    <a:pt x="671" y="731"/>
                    <a:pt x="703" y="720"/>
                    <a:pt x="703" y="720"/>
                  </a:cubicBezTo>
                  <a:cubicBezTo>
                    <a:pt x="738" y="729"/>
                    <a:pt x="807" y="752"/>
                    <a:pt x="807" y="752"/>
                  </a:cubicBezTo>
                  <a:cubicBezTo>
                    <a:pt x="826" y="780"/>
                    <a:pt x="839" y="797"/>
                    <a:pt x="871" y="808"/>
                  </a:cubicBezTo>
                  <a:cubicBezTo>
                    <a:pt x="896" y="842"/>
                    <a:pt x="920" y="877"/>
                    <a:pt x="943" y="912"/>
                  </a:cubicBezTo>
                  <a:cubicBezTo>
                    <a:pt x="976" y="961"/>
                    <a:pt x="946" y="1013"/>
                    <a:pt x="999" y="1048"/>
                  </a:cubicBezTo>
                  <a:cubicBezTo>
                    <a:pt x="1004" y="1056"/>
                    <a:pt x="1005" y="1072"/>
                    <a:pt x="1015" y="1072"/>
                  </a:cubicBezTo>
                  <a:cubicBezTo>
                    <a:pt x="1023" y="1072"/>
                    <a:pt x="1011" y="1055"/>
                    <a:pt x="1007" y="1048"/>
                  </a:cubicBezTo>
                  <a:cubicBezTo>
                    <a:pt x="981" y="1001"/>
                    <a:pt x="940" y="942"/>
                    <a:pt x="895" y="912"/>
                  </a:cubicBezTo>
                  <a:cubicBezTo>
                    <a:pt x="886" y="884"/>
                    <a:pt x="846" y="847"/>
                    <a:pt x="823" y="824"/>
                  </a:cubicBezTo>
                  <a:cubicBezTo>
                    <a:pt x="820" y="816"/>
                    <a:pt x="821" y="806"/>
                    <a:pt x="815" y="800"/>
                  </a:cubicBezTo>
                  <a:cubicBezTo>
                    <a:pt x="809" y="794"/>
                    <a:pt x="796" y="799"/>
                    <a:pt x="791" y="792"/>
                  </a:cubicBezTo>
                  <a:cubicBezTo>
                    <a:pt x="776" y="773"/>
                    <a:pt x="759" y="728"/>
                    <a:pt x="759" y="728"/>
                  </a:cubicBezTo>
                  <a:cubicBezTo>
                    <a:pt x="685" y="735"/>
                    <a:pt x="629" y="743"/>
                    <a:pt x="567" y="784"/>
                  </a:cubicBezTo>
                  <a:cubicBezTo>
                    <a:pt x="548" y="813"/>
                    <a:pt x="532" y="837"/>
                    <a:pt x="503" y="856"/>
                  </a:cubicBezTo>
                  <a:cubicBezTo>
                    <a:pt x="486" y="882"/>
                    <a:pt x="449" y="919"/>
                    <a:pt x="423" y="936"/>
                  </a:cubicBezTo>
                  <a:cubicBezTo>
                    <a:pt x="405" y="909"/>
                    <a:pt x="401" y="883"/>
                    <a:pt x="383" y="856"/>
                  </a:cubicBezTo>
                  <a:cubicBezTo>
                    <a:pt x="378" y="835"/>
                    <a:pt x="351" y="749"/>
                    <a:pt x="335" y="736"/>
                  </a:cubicBezTo>
                  <a:cubicBezTo>
                    <a:pt x="324" y="727"/>
                    <a:pt x="308" y="725"/>
                    <a:pt x="295" y="720"/>
                  </a:cubicBezTo>
                  <a:cubicBezTo>
                    <a:pt x="284" y="686"/>
                    <a:pt x="267" y="659"/>
                    <a:pt x="255" y="624"/>
                  </a:cubicBezTo>
                  <a:cubicBezTo>
                    <a:pt x="227" y="541"/>
                    <a:pt x="227" y="468"/>
                    <a:pt x="127" y="448"/>
                  </a:cubicBezTo>
                  <a:cubicBezTo>
                    <a:pt x="119" y="440"/>
                    <a:pt x="113" y="430"/>
                    <a:pt x="103" y="424"/>
                  </a:cubicBezTo>
                  <a:cubicBezTo>
                    <a:pt x="102" y="424"/>
                    <a:pt x="0" y="384"/>
                    <a:pt x="71" y="408"/>
                  </a:cubicBezTo>
                  <a:cubicBezTo>
                    <a:pt x="119" y="449"/>
                    <a:pt x="144" y="469"/>
                    <a:pt x="199" y="496"/>
                  </a:cubicBezTo>
                  <a:cubicBezTo>
                    <a:pt x="206" y="518"/>
                    <a:pt x="208" y="558"/>
                    <a:pt x="223" y="576"/>
                  </a:cubicBezTo>
                  <a:cubicBezTo>
                    <a:pt x="232" y="586"/>
                    <a:pt x="245" y="591"/>
                    <a:pt x="255" y="600"/>
                  </a:cubicBezTo>
                  <a:cubicBezTo>
                    <a:pt x="301" y="641"/>
                    <a:pt x="294" y="635"/>
                    <a:pt x="319" y="672"/>
                  </a:cubicBezTo>
                  <a:cubicBezTo>
                    <a:pt x="322" y="683"/>
                    <a:pt x="320" y="695"/>
                    <a:pt x="327" y="704"/>
                  </a:cubicBezTo>
                  <a:cubicBezTo>
                    <a:pt x="332" y="711"/>
                    <a:pt x="344" y="707"/>
                    <a:pt x="351" y="712"/>
                  </a:cubicBezTo>
                  <a:cubicBezTo>
                    <a:pt x="376" y="729"/>
                    <a:pt x="408" y="757"/>
                    <a:pt x="423" y="784"/>
                  </a:cubicBezTo>
                  <a:cubicBezTo>
                    <a:pt x="435" y="805"/>
                    <a:pt x="441" y="818"/>
                    <a:pt x="447" y="840"/>
                  </a:cubicBezTo>
                  <a:cubicBezTo>
                    <a:pt x="450" y="851"/>
                    <a:pt x="456" y="883"/>
                    <a:pt x="455" y="872"/>
                  </a:cubicBezTo>
                  <a:cubicBezTo>
                    <a:pt x="442" y="755"/>
                    <a:pt x="461" y="790"/>
                    <a:pt x="399" y="728"/>
                  </a:cubicBezTo>
                  <a:cubicBezTo>
                    <a:pt x="450" y="677"/>
                    <a:pt x="415" y="604"/>
                    <a:pt x="455" y="544"/>
                  </a:cubicBezTo>
                  <a:cubicBezTo>
                    <a:pt x="462" y="493"/>
                    <a:pt x="479" y="466"/>
                    <a:pt x="487" y="416"/>
                  </a:cubicBezTo>
                  <a:cubicBezTo>
                    <a:pt x="488" y="411"/>
                    <a:pt x="493" y="351"/>
                    <a:pt x="503" y="336"/>
                  </a:cubicBezTo>
                  <a:cubicBezTo>
                    <a:pt x="537" y="285"/>
                    <a:pt x="527" y="344"/>
                    <a:pt x="559" y="264"/>
                  </a:cubicBezTo>
                  <a:cubicBezTo>
                    <a:pt x="573" y="229"/>
                    <a:pt x="579" y="180"/>
                    <a:pt x="607" y="152"/>
                  </a:cubicBezTo>
                  <a:cubicBezTo>
                    <a:pt x="616" y="143"/>
                    <a:pt x="630" y="137"/>
                    <a:pt x="639" y="128"/>
                  </a:cubicBezTo>
                  <a:cubicBezTo>
                    <a:pt x="692" y="75"/>
                    <a:pt x="615" y="131"/>
                    <a:pt x="679" y="88"/>
                  </a:cubicBezTo>
                  <a:cubicBezTo>
                    <a:pt x="655" y="124"/>
                    <a:pt x="620" y="151"/>
                    <a:pt x="591" y="184"/>
                  </a:cubicBezTo>
                  <a:cubicBezTo>
                    <a:pt x="566" y="213"/>
                    <a:pt x="548" y="256"/>
                    <a:pt x="527" y="288"/>
                  </a:cubicBezTo>
                  <a:cubicBezTo>
                    <a:pt x="500" y="328"/>
                    <a:pt x="492" y="395"/>
                    <a:pt x="479" y="440"/>
                  </a:cubicBezTo>
                  <a:cubicBezTo>
                    <a:pt x="473" y="459"/>
                    <a:pt x="471" y="478"/>
                    <a:pt x="463" y="496"/>
                  </a:cubicBezTo>
                  <a:cubicBezTo>
                    <a:pt x="441" y="548"/>
                    <a:pt x="445" y="487"/>
                    <a:pt x="431" y="568"/>
                  </a:cubicBezTo>
                  <a:cubicBezTo>
                    <a:pt x="422" y="624"/>
                    <a:pt x="428" y="601"/>
                    <a:pt x="415" y="640"/>
                  </a:cubicBezTo>
                  <a:cubicBezTo>
                    <a:pt x="408" y="696"/>
                    <a:pt x="405" y="753"/>
                    <a:pt x="391" y="808"/>
                  </a:cubicBezTo>
                  <a:cubicBezTo>
                    <a:pt x="410" y="866"/>
                    <a:pt x="411" y="840"/>
                    <a:pt x="399" y="888"/>
                  </a:cubicBezTo>
                  <a:cubicBezTo>
                    <a:pt x="399" y="889"/>
                    <a:pt x="412" y="953"/>
                    <a:pt x="431" y="896"/>
                  </a:cubicBezTo>
                  <a:cubicBezTo>
                    <a:pt x="450" y="840"/>
                    <a:pt x="421" y="826"/>
                    <a:pt x="455" y="792"/>
                  </a:cubicBezTo>
                  <a:cubicBezTo>
                    <a:pt x="515" y="732"/>
                    <a:pt x="561" y="727"/>
                    <a:pt x="647" y="720"/>
                  </a:cubicBezTo>
                  <a:cubicBezTo>
                    <a:pt x="706" y="681"/>
                    <a:pt x="788" y="712"/>
                    <a:pt x="855" y="720"/>
                  </a:cubicBezTo>
                  <a:cubicBezTo>
                    <a:pt x="875" y="730"/>
                    <a:pt x="904" y="742"/>
                    <a:pt x="919" y="760"/>
                  </a:cubicBezTo>
                  <a:cubicBezTo>
                    <a:pt x="952" y="799"/>
                    <a:pt x="897" y="774"/>
                    <a:pt x="951" y="792"/>
                  </a:cubicBezTo>
                  <a:cubicBezTo>
                    <a:pt x="963" y="862"/>
                    <a:pt x="959" y="926"/>
                    <a:pt x="1023" y="968"/>
                  </a:cubicBezTo>
                  <a:cubicBezTo>
                    <a:pt x="1026" y="976"/>
                    <a:pt x="1023" y="992"/>
                    <a:pt x="1031" y="992"/>
                  </a:cubicBezTo>
                  <a:cubicBezTo>
                    <a:pt x="1039" y="992"/>
                    <a:pt x="1040" y="976"/>
                    <a:pt x="1039" y="968"/>
                  </a:cubicBezTo>
                  <a:cubicBezTo>
                    <a:pt x="1035" y="942"/>
                    <a:pt x="1018" y="942"/>
                    <a:pt x="999" y="936"/>
                  </a:cubicBezTo>
                  <a:cubicBezTo>
                    <a:pt x="970" y="907"/>
                    <a:pt x="937" y="887"/>
                    <a:pt x="903" y="864"/>
                  </a:cubicBezTo>
                  <a:cubicBezTo>
                    <a:pt x="895" y="859"/>
                    <a:pt x="887" y="853"/>
                    <a:pt x="879" y="848"/>
                  </a:cubicBezTo>
                  <a:cubicBezTo>
                    <a:pt x="871" y="843"/>
                    <a:pt x="855" y="832"/>
                    <a:pt x="855" y="832"/>
                  </a:cubicBezTo>
                  <a:cubicBezTo>
                    <a:pt x="838" y="798"/>
                    <a:pt x="818" y="783"/>
                    <a:pt x="783" y="768"/>
                  </a:cubicBezTo>
                  <a:cubicBezTo>
                    <a:pt x="768" y="761"/>
                    <a:pt x="735" y="752"/>
                    <a:pt x="735" y="752"/>
                  </a:cubicBezTo>
                  <a:cubicBezTo>
                    <a:pt x="719" y="757"/>
                    <a:pt x="699" y="756"/>
                    <a:pt x="687" y="768"/>
                  </a:cubicBezTo>
                  <a:cubicBezTo>
                    <a:pt x="679" y="776"/>
                    <a:pt x="673" y="787"/>
                    <a:pt x="663" y="792"/>
                  </a:cubicBezTo>
                  <a:cubicBezTo>
                    <a:pt x="630" y="810"/>
                    <a:pt x="587" y="812"/>
                    <a:pt x="551" y="816"/>
                  </a:cubicBezTo>
                  <a:cubicBezTo>
                    <a:pt x="529" y="830"/>
                    <a:pt x="520" y="838"/>
                    <a:pt x="495" y="848"/>
                  </a:cubicBezTo>
                  <a:cubicBezTo>
                    <a:pt x="479" y="854"/>
                    <a:pt x="447" y="864"/>
                    <a:pt x="447" y="864"/>
                  </a:cubicBezTo>
                  <a:cubicBezTo>
                    <a:pt x="436" y="848"/>
                    <a:pt x="421" y="826"/>
                    <a:pt x="415" y="808"/>
                  </a:cubicBezTo>
                  <a:cubicBezTo>
                    <a:pt x="410" y="792"/>
                    <a:pt x="413" y="775"/>
                    <a:pt x="407" y="760"/>
                  </a:cubicBezTo>
                  <a:cubicBezTo>
                    <a:pt x="394" y="729"/>
                    <a:pt x="362" y="693"/>
                    <a:pt x="343" y="664"/>
                  </a:cubicBezTo>
                  <a:cubicBezTo>
                    <a:pt x="323" y="634"/>
                    <a:pt x="314" y="596"/>
                    <a:pt x="295" y="568"/>
                  </a:cubicBezTo>
                  <a:cubicBezTo>
                    <a:pt x="277" y="540"/>
                    <a:pt x="250" y="516"/>
                    <a:pt x="231" y="488"/>
                  </a:cubicBezTo>
                  <a:cubicBezTo>
                    <a:pt x="228" y="445"/>
                    <a:pt x="227" y="403"/>
                    <a:pt x="223" y="360"/>
                  </a:cubicBezTo>
                  <a:cubicBezTo>
                    <a:pt x="219" y="319"/>
                    <a:pt x="185" y="317"/>
                    <a:pt x="159" y="296"/>
                  </a:cubicBezTo>
                  <a:cubicBezTo>
                    <a:pt x="22" y="186"/>
                    <a:pt x="165" y="284"/>
                    <a:pt x="87" y="232"/>
                  </a:cubicBezTo>
                  <a:cubicBezTo>
                    <a:pt x="87" y="232"/>
                    <a:pt x="92" y="253"/>
                    <a:pt x="95" y="264"/>
                  </a:cubicBezTo>
                  <a:cubicBezTo>
                    <a:pt x="90" y="296"/>
                    <a:pt x="89" y="329"/>
                    <a:pt x="79" y="360"/>
                  </a:cubicBezTo>
                  <a:cubicBezTo>
                    <a:pt x="76" y="368"/>
                    <a:pt x="76" y="377"/>
                    <a:pt x="71" y="384"/>
                  </a:cubicBezTo>
                  <a:cubicBezTo>
                    <a:pt x="65" y="392"/>
                    <a:pt x="47" y="410"/>
                    <a:pt x="47" y="400"/>
                  </a:cubicBezTo>
                  <a:cubicBezTo>
                    <a:pt x="47" y="387"/>
                    <a:pt x="63" y="379"/>
                    <a:pt x="71" y="368"/>
                  </a:cubicBezTo>
                  <a:cubicBezTo>
                    <a:pt x="74" y="360"/>
                    <a:pt x="77" y="352"/>
                    <a:pt x="79" y="344"/>
                  </a:cubicBezTo>
                  <a:cubicBezTo>
                    <a:pt x="82" y="333"/>
                    <a:pt x="84" y="323"/>
                    <a:pt x="87" y="312"/>
                  </a:cubicBezTo>
                  <a:cubicBezTo>
                    <a:pt x="92" y="296"/>
                    <a:pt x="103" y="264"/>
                    <a:pt x="103" y="264"/>
                  </a:cubicBezTo>
                  <a:cubicBezTo>
                    <a:pt x="106" y="282"/>
                    <a:pt x="109" y="358"/>
                    <a:pt x="127" y="376"/>
                  </a:cubicBezTo>
                  <a:cubicBezTo>
                    <a:pt x="133" y="382"/>
                    <a:pt x="143" y="381"/>
                    <a:pt x="151" y="384"/>
                  </a:cubicBezTo>
                  <a:cubicBezTo>
                    <a:pt x="172" y="426"/>
                    <a:pt x="195" y="449"/>
                    <a:pt x="239" y="464"/>
                  </a:cubicBezTo>
                  <a:cubicBezTo>
                    <a:pt x="297" y="522"/>
                    <a:pt x="332" y="467"/>
                    <a:pt x="375" y="424"/>
                  </a:cubicBezTo>
                  <a:cubicBezTo>
                    <a:pt x="385" y="414"/>
                    <a:pt x="402" y="419"/>
                    <a:pt x="415" y="416"/>
                  </a:cubicBezTo>
                  <a:cubicBezTo>
                    <a:pt x="429" y="407"/>
                    <a:pt x="461" y="386"/>
                    <a:pt x="471" y="376"/>
                  </a:cubicBezTo>
                  <a:cubicBezTo>
                    <a:pt x="509" y="338"/>
                    <a:pt x="469" y="367"/>
                    <a:pt x="495" y="328"/>
                  </a:cubicBezTo>
                  <a:cubicBezTo>
                    <a:pt x="520" y="290"/>
                    <a:pt x="518" y="319"/>
                    <a:pt x="535" y="280"/>
                  </a:cubicBezTo>
                  <a:cubicBezTo>
                    <a:pt x="573" y="194"/>
                    <a:pt x="531" y="262"/>
                    <a:pt x="567" y="208"/>
                  </a:cubicBezTo>
                  <a:cubicBezTo>
                    <a:pt x="570" y="195"/>
                    <a:pt x="569" y="180"/>
                    <a:pt x="575" y="168"/>
                  </a:cubicBezTo>
                  <a:cubicBezTo>
                    <a:pt x="583" y="150"/>
                    <a:pt x="613" y="102"/>
                    <a:pt x="607" y="120"/>
                  </a:cubicBezTo>
                  <a:cubicBezTo>
                    <a:pt x="602" y="136"/>
                    <a:pt x="598" y="153"/>
                    <a:pt x="591" y="168"/>
                  </a:cubicBezTo>
                  <a:cubicBezTo>
                    <a:pt x="578" y="198"/>
                    <a:pt x="554" y="222"/>
                    <a:pt x="527" y="240"/>
                  </a:cubicBezTo>
                  <a:cubicBezTo>
                    <a:pt x="494" y="289"/>
                    <a:pt x="498" y="303"/>
                    <a:pt x="471" y="352"/>
                  </a:cubicBezTo>
                  <a:cubicBezTo>
                    <a:pt x="453" y="385"/>
                    <a:pt x="446" y="378"/>
                    <a:pt x="431" y="408"/>
                  </a:cubicBezTo>
                  <a:cubicBezTo>
                    <a:pt x="427" y="416"/>
                    <a:pt x="427" y="425"/>
                    <a:pt x="423" y="432"/>
                  </a:cubicBezTo>
                  <a:cubicBezTo>
                    <a:pt x="414" y="449"/>
                    <a:pt x="402" y="464"/>
                    <a:pt x="391" y="480"/>
                  </a:cubicBezTo>
                  <a:cubicBezTo>
                    <a:pt x="388" y="485"/>
                    <a:pt x="322" y="500"/>
                    <a:pt x="311" y="504"/>
                  </a:cubicBezTo>
                  <a:cubicBezTo>
                    <a:pt x="247" y="496"/>
                    <a:pt x="191" y="475"/>
                    <a:pt x="127" y="464"/>
                  </a:cubicBezTo>
                  <a:cubicBezTo>
                    <a:pt x="119" y="453"/>
                    <a:pt x="111" y="443"/>
                    <a:pt x="103" y="432"/>
                  </a:cubicBezTo>
                  <a:cubicBezTo>
                    <a:pt x="97" y="424"/>
                    <a:pt x="79" y="403"/>
                    <a:pt x="87" y="408"/>
                  </a:cubicBezTo>
                  <a:cubicBezTo>
                    <a:pt x="121" y="431"/>
                    <a:pt x="166" y="448"/>
                    <a:pt x="207" y="456"/>
                  </a:cubicBezTo>
                  <a:cubicBezTo>
                    <a:pt x="234" y="461"/>
                    <a:pt x="287" y="472"/>
                    <a:pt x="287" y="472"/>
                  </a:cubicBezTo>
                  <a:cubicBezTo>
                    <a:pt x="318" y="487"/>
                    <a:pt x="344" y="501"/>
                    <a:pt x="367" y="528"/>
                  </a:cubicBezTo>
                  <a:cubicBezTo>
                    <a:pt x="395" y="561"/>
                    <a:pt x="413" y="594"/>
                    <a:pt x="455" y="608"/>
                  </a:cubicBezTo>
                  <a:cubicBezTo>
                    <a:pt x="551" y="601"/>
                    <a:pt x="629" y="590"/>
                    <a:pt x="727" y="584"/>
                  </a:cubicBezTo>
                  <a:cubicBezTo>
                    <a:pt x="780" y="571"/>
                    <a:pt x="835" y="577"/>
                    <a:pt x="887" y="560"/>
                  </a:cubicBezTo>
                  <a:cubicBezTo>
                    <a:pt x="895" y="552"/>
                    <a:pt x="902" y="542"/>
                    <a:pt x="911" y="536"/>
                  </a:cubicBezTo>
                  <a:cubicBezTo>
                    <a:pt x="918" y="531"/>
                    <a:pt x="928" y="533"/>
                    <a:pt x="935" y="528"/>
                  </a:cubicBezTo>
                  <a:cubicBezTo>
                    <a:pt x="963" y="505"/>
                    <a:pt x="959" y="462"/>
                    <a:pt x="959" y="432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763120" y="8420760"/>
              <a:ext cx="7593120" cy="5521320"/>
            </a:xfrm>
            <a:custGeom>
              <a:avLst/>
              <a:gdLst/>
              <a:ahLst/>
              <a:rect l="l" t="t" r="r" b="b"/>
              <a:pathLst>
                <a:path w="1157" h="1032">
                  <a:moveTo>
                    <a:pt x="125" y="816"/>
                  </a:moveTo>
                  <a:cubicBezTo>
                    <a:pt x="122" y="835"/>
                    <a:pt x="122" y="854"/>
                    <a:pt x="117" y="872"/>
                  </a:cubicBezTo>
                  <a:cubicBezTo>
                    <a:pt x="114" y="881"/>
                    <a:pt x="94" y="889"/>
                    <a:pt x="101" y="896"/>
                  </a:cubicBezTo>
                  <a:cubicBezTo>
                    <a:pt x="109" y="904"/>
                    <a:pt x="123" y="892"/>
                    <a:pt x="133" y="888"/>
                  </a:cubicBezTo>
                  <a:cubicBezTo>
                    <a:pt x="180" y="870"/>
                    <a:pt x="224" y="839"/>
                    <a:pt x="269" y="816"/>
                  </a:cubicBezTo>
                  <a:cubicBezTo>
                    <a:pt x="280" y="800"/>
                    <a:pt x="290" y="784"/>
                    <a:pt x="301" y="768"/>
                  </a:cubicBezTo>
                  <a:cubicBezTo>
                    <a:pt x="306" y="760"/>
                    <a:pt x="317" y="744"/>
                    <a:pt x="317" y="744"/>
                  </a:cubicBezTo>
                  <a:cubicBezTo>
                    <a:pt x="330" y="679"/>
                    <a:pt x="305" y="630"/>
                    <a:pt x="269" y="576"/>
                  </a:cubicBezTo>
                  <a:cubicBezTo>
                    <a:pt x="264" y="568"/>
                    <a:pt x="262" y="556"/>
                    <a:pt x="253" y="552"/>
                  </a:cubicBezTo>
                  <a:cubicBezTo>
                    <a:pt x="240" y="547"/>
                    <a:pt x="226" y="541"/>
                    <a:pt x="213" y="536"/>
                  </a:cubicBezTo>
                  <a:cubicBezTo>
                    <a:pt x="189" y="501"/>
                    <a:pt x="138" y="465"/>
                    <a:pt x="101" y="440"/>
                  </a:cubicBezTo>
                  <a:cubicBezTo>
                    <a:pt x="87" y="398"/>
                    <a:pt x="100" y="421"/>
                    <a:pt x="45" y="384"/>
                  </a:cubicBezTo>
                  <a:cubicBezTo>
                    <a:pt x="31" y="375"/>
                    <a:pt x="77" y="395"/>
                    <a:pt x="93" y="400"/>
                  </a:cubicBezTo>
                  <a:cubicBezTo>
                    <a:pt x="103" y="403"/>
                    <a:pt x="114" y="405"/>
                    <a:pt x="125" y="408"/>
                  </a:cubicBezTo>
                  <a:cubicBezTo>
                    <a:pt x="150" y="433"/>
                    <a:pt x="170" y="464"/>
                    <a:pt x="197" y="488"/>
                  </a:cubicBezTo>
                  <a:cubicBezTo>
                    <a:pt x="211" y="501"/>
                    <a:pt x="245" y="520"/>
                    <a:pt x="245" y="520"/>
                  </a:cubicBezTo>
                  <a:cubicBezTo>
                    <a:pt x="292" y="590"/>
                    <a:pt x="262" y="556"/>
                    <a:pt x="341" y="616"/>
                  </a:cubicBezTo>
                  <a:cubicBezTo>
                    <a:pt x="349" y="622"/>
                    <a:pt x="350" y="633"/>
                    <a:pt x="357" y="640"/>
                  </a:cubicBezTo>
                  <a:cubicBezTo>
                    <a:pt x="364" y="647"/>
                    <a:pt x="373" y="651"/>
                    <a:pt x="381" y="656"/>
                  </a:cubicBezTo>
                  <a:cubicBezTo>
                    <a:pt x="378" y="664"/>
                    <a:pt x="375" y="672"/>
                    <a:pt x="373" y="680"/>
                  </a:cubicBezTo>
                  <a:cubicBezTo>
                    <a:pt x="369" y="698"/>
                    <a:pt x="370" y="718"/>
                    <a:pt x="365" y="736"/>
                  </a:cubicBezTo>
                  <a:cubicBezTo>
                    <a:pt x="362" y="745"/>
                    <a:pt x="353" y="751"/>
                    <a:pt x="349" y="760"/>
                  </a:cubicBezTo>
                  <a:cubicBezTo>
                    <a:pt x="345" y="768"/>
                    <a:pt x="347" y="778"/>
                    <a:pt x="341" y="784"/>
                  </a:cubicBezTo>
                  <a:cubicBezTo>
                    <a:pt x="294" y="831"/>
                    <a:pt x="240" y="814"/>
                    <a:pt x="189" y="848"/>
                  </a:cubicBezTo>
                  <a:cubicBezTo>
                    <a:pt x="155" y="871"/>
                    <a:pt x="174" y="860"/>
                    <a:pt x="133" y="880"/>
                  </a:cubicBezTo>
                  <a:cubicBezTo>
                    <a:pt x="128" y="888"/>
                    <a:pt x="107" y="904"/>
                    <a:pt x="117" y="904"/>
                  </a:cubicBezTo>
                  <a:cubicBezTo>
                    <a:pt x="144" y="904"/>
                    <a:pt x="139" y="868"/>
                    <a:pt x="149" y="856"/>
                  </a:cubicBezTo>
                  <a:cubicBezTo>
                    <a:pt x="159" y="844"/>
                    <a:pt x="197" y="802"/>
                    <a:pt x="221" y="792"/>
                  </a:cubicBezTo>
                  <a:cubicBezTo>
                    <a:pt x="271" y="770"/>
                    <a:pt x="302" y="760"/>
                    <a:pt x="349" y="728"/>
                  </a:cubicBezTo>
                  <a:cubicBezTo>
                    <a:pt x="366" y="716"/>
                    <a:pt x="372" y="692"/>
                    <a:pt x="389" y="680"/>
                  </a:cubicBezTo>
                  <a:cubicBezTo>
                    <a:pt x="420" y="659"/>
                    <a:pt x="463" y="668"/>
                    <a:pt x="501" y="664"/>
                  </a:cubicBezTo>
                  <a:cubicBezTo>
                    <a:pt x="554" y="651"/>
                    <a:pt x="608" y="651"/>
                    <a:pt x="661" y="640"/>
                  </a:cubicBezTo>
                  <a:cubicBezTo>
                    <a:pt x="749" y="643"/>
                    <a:pt x="837" y="644"/>
                    <a:pt x="925" y="648"/>
                  </a:cubicBezTo>
                  <a:cubicBezTo>
                    <a:pt x="949" y="649"/>
                    <a:pt x="974" y="648"/>
                    <a:pt x="997" y="656"/>
                  </a:cubicBezTo>
                  <a:cubicBezTo>
                    <a:pt x="1038" y="670"/>
                    <a:pt x="1056" y="747"/>
                    <a:pt x="1085" y="776"/>
                  </a:cubicBezTo>
                  <a:cubicBezTo>
                    <a:pt x="1094" y="802"/>
                    <a:pt x="1125" y="848"/>
                    <a:pt x="1125" y="848"/>
                  </a:cubicBezTo>
                  <a:cubicBezTo>
                    <a:pt x="1144" y="926"/>
                    <a:pt x="1149" y="928"/>
                    <a:pt x="1149" y="1024"/>
                  </a:cubicBezTo>
                  <a:cubicBezTo>
                    <a:pt x="1149" y="1032"/>
                    <a:pt x="1143" y="1008"/>
                    <a:pt x="1141" y="1000"/>
                  </a:cubicBezTo>
                  <a:cubicBezTo>
                    <a:pt x="1137" y="984"/>
                    <a:pt x="1138" y="968"/>
                    <a:pt x="1133" y="952"/>
                  </a:cubicBezTo>
                  <a:cubicBezTo>
                    <a:pt x="1123" y="920"/>
                    <a:pt x="1104" y="898"/>
                    <a:pt x="1077" y="880"/>
                  </a:cubicBezTo>
                  <a:cubicBezTo>
                    <a:pt x="1065" y="845"/>
                    <a:pt x="1028" y="821"/>
                    <a:pt x="997" y="800"/>
                  </a:cubicBezTo>
                  <a:cubicBezTo>
                    <a:pt x="968" y="756"/>
                    <a:pt x="927" y="726"/>
                    <a:pt x="885" y="696"/>
                  </a:cubicBezTo>
                  <a:cubicBezTo>
                    <a:pt x="876" y="689"/>
                    <a:pt x="872" y="676"/>
                    <a:pt x="861" y="672"/>
                  </a:cubicBezTo>
                  <a:cubicBezTo>
                    <a:pt x="801" y="648"/>
                    <a:pt x="733" y="660"/>
                    <a:pt x="669" y="656"/>
                  </a:cubicBezTo>
                  <a:cubicBezTo>
                    <a:pt x="569" y="661"/>
                    <a:pt x="479" y="670"/>
                    <a:pt x="381" y="680"/>
                  </a:cubicBezTo>
                  <a:cubicBezTo>
                    <a:pt x="309" y="704"/>
                    <a:pt x="244" y="742"/>
                    <a:pt x="181" y="784"/>
                  </a:cubicBezTo>
                  <a:cubicBezTo>
                    <a:pt x="162" y="797"/>
                    <a:pt x="215" y="753"/>
                    <a:pt x="229" y="736"/>
                  </a:cubicBezTo>
                  <a:cubicBezTo>
                    <a:pt x="255" y="705"/>
                    <a:pt x="273" y="668"/>
                    <a:pt x="301" y="640"/>
                  </a:cubicBezTo>
                  <a:cubicBezTo>
                    <a:pt x="323" y="618"/>
                    <a:pt x="342" y="599"/>
                    <a:pt x="349" y="568"/>
                  </a:cubicBezTo>
                  <a:cubicBezTo>
                    <a:pt x="353" y="552"/>
                    <a:pt x="351" y="535"/>
                    <a:pt x="357" y="520"/>
                  </a:cubicBezTo>
                  <a:cubicBezTo>
                    <a:pt x="378" y="470"/>
                    <a:pt x="429" y="443"/>
                    <a:pt x="461" y="400"/>
                  </a:cubicBezTo>
                  <a:cubicBezTo>
                    <a:pt x="481" y="341"/>
                    <a:pt x="513" y="300"/>
                    <a:pt x="573" y="280"/>
                  </a:cubicBezTo>
                  <a:cubicBezTo>
                    <a:pt x="590" y="254"/>
                    <a:pt x="612" y="234"/>
                    <a:pt x="629" y="208"/>
                  </a:cubicBezTo>
                  <a:cubicBezTo>
                    <a:pt x="651" y="97"/>
                    <a:pt x="617" y="274"/>
                    <a:pt x="645" y="80"/>
                  </a:cubicBezTo>
                  <a:cubicBezTo>
                    <a:pt x="653" y="22"/>
                    <a:pt x="661" y="100"/>
                    <a:pt x="661" y="8"/>
                  </a:cubicBezTo>
                  <a:cubicBezTo>
                    <a:pt x="661" y="0"/>
                    <a:pt x="658" y="25"/>
                    <a:pt x="653" y="32"/>
                  </a:cubicBezTo>
                  <a:cubicBezTo>
                    <a:pt x="647" y="41"/>
                    <a:pt x="637" y="48"/>
                    <a:pt x="629" y="56"/>
                  </a:cubicBezTo>
                  <a:cubicBezTo>
                    <a:pt x="613" y="153"/>
                    <a:pt x="604" y="245"/>
                    <a:pt x="549" y="328"/>
                  </a:cubicBezTo>
                  <a:cubicBezTo>
                    <a:pt x="539" y="370"/>
                    <a:pt x="511" y="407"/>
                    <a:pt x="477" y="432"/>
                  </a:cubicBezTo>
                  <a:cubicBezTo>
                    <a:pt x="462" y="476"/>
                    <a:pt x="428" y="470"/>
                    <a:pt x="389" y="480"/>
                  </a:cubicBezTo>
                  <a:cubicBezTo>
                    <a:pt x="360" y="477"/>
                    <a:pt x="329" y="480"/>
                    <a:pt x="301" y="472"/>
                  </a:cubicBezTo>
                  <a:cubicBezTo>
                    <a:pt x="288" y="469"/>
                    <a:pt x="281" y="455"/>
                    <a:pt x="269" y="448"/>
                  </a:cubicBezTo>
                  <a:cubicBezTo>
                    <a:pt x="240" y="432"/>
                    <a:pt x="220" y="427"/>
                    <a:pt x="197" y="400"/>
                  </a:cubicBezTo>
                  <a:cubicBezTo>
                    <a:pt x="150" y="345"/>
                    <a:pt x="201" y="387"/>
                    <a:pt x="125" y="336"/>
                  </a:cubicBezTo>
                  <a:cubicBezTo>
                    <a:pt x="117" y="331"/>
                    <a:pt x="101" y="320"/>
                    <a:pt x="101" y="320"/>
                  </a:cubicBezTo>
                  <a:cubicBezTo>
                    <a:pt x="93" y="323"/>
                    <a:pt x="71" y="322"/>
                    <a:pt x="77" y="328"/>
                  </a:cubicBezTo>
                  <a:cubicBezTo>
                    <a:pt x="87" y="338"/>
                    <a:pt x="104" y="331"/>
                    <a:pt x="117" y="336"/>
                  </a:cubicBezTo>
                  <a:cubicBezTo>
                    <a:pt x="142" y="346"/>
                    <a:pt x="168" y="359"/>
                    <a:pt x="189" y="376"/>
                  </a:cubicBezTo>
                  <a:cubicBezTo>
                    <a:pt x="283" y="451"/>
                    <a:pt x="197" y="404"/>
                    <a:pt x="269" y="440"/>
                  </a:cubicBezTo>
                  <a:cubicBezTo>
                    <a:pt x="286" y="466"/>
                    <a:pt x="291" y="491"/>
                    <a:pt x="301" y="520"/>
                  </a:cubicBezTo>
                  <a:cubicBezTo>
                    <a:pt x="306" y="567"/>
                    <a:pt x="325" y="603"/>
                    <a:pt x="301" y="640"/>
                  </a:cubicBezTo>
                  <a:cubicBezTo>
                    <a:pt x="285" y="705"/>
                    <a:pt x="261" y="744"/>
                    <a:pt x="213" y="792"/>
                  </a:cubicBezTo>
                  <a:cubicBezTo>
                    <a:pt x="185" y="820"/>
                    <a:pt x="133" y="797"/>
                    <a:pt x="93" y="800"/>
                  </a:cubicBezTo>
                  <a:cubicBezTo>
                    <a:pt x="77" y="881"/>
                    <a:pt x="51" y="948"/>
                    <a:pt x="5" y="1016"/>
                  </a:cubicBezTo>
                  <a:cubicBezTo>
                    <a:pt x="0" y="1023"/>
                    <a:pt x="9" y="1000"/>
                    <a:pt x="13" y="992"/>
                  </a:cubicBezTo>
                  <a:cubicBezTo>
                    <a:pt x="21" y="976"/>
                    <a:pt x="27" y="959"/>
                    <a:pt x="37" y="944"/>
                  </a:cubicBezTo>
                  <a:cubicBezTo>
                    <a:pt x="67" y="899"/>
                    <a:pt x="110" y="862"/>
                    <a:pt x="141" y="816"/>
                  </a:cubicBezTo>
                  <a:cubicBezTo>
                    <a:pt x="150" y="802"/>
                    <a:pt x="157" y="768"/>
                    <a:pt x="157" y="768"/>
                  </a:cubicBezTo>
                  <a:cubicBezTo>
                    <a:pt x="160" y="776"/>
                    <a:pt x="165" y="784"/>
                    <a:pt x="165" y="792"/>
                  </a:cubicBezTo>
                  <a:cubicBezTo>
                    <a:pt x="165" y="853"/>
                    <a:pt x="135" y="855"/>
                    <a:pt x="181" y="840"/>
                  </a:cubicBezTo>
                  <a:cubicBezTo>
                    <a:pt x="233" y="762"/>
                    <a:pt x="320" y="760"/>
                    <a:pt x="405" y="752"/>
                  </a:cubicBezTo>
                  <a:cubicBezTo>
                    <a:pt x="407" y="751"/>
                    <a:pt x="453" y="715"/>
                    <a:pt x="461" y="712"/>
                  </a:cubicBezTo>
                  <a:cubicBezTo>
                    <a:pt x="482" y="704"/>
                    <a:pt x="525" y="696"/>
                    <a:pt x="525" y="696"/>
                  </a:cubicBezTo>
                  <a:cubicBezTo>
                    <a:pt x="582" y="658"/>
                    <a:pt x="610" y="670"/>
                    <a:pt x="693" y="664"/>
                  </a:cubicBezTo>
                  <a:cubicBezTo>
                    <a:pt x="727" y="653"/>
                    <a:pt x="754" y="636"/>
                    <a:pt x="789" y="624"/>
                  </a:cubicBezTo>
                  <a:cubicBezTo>
                    <a:pt x="797" y="621"/>
                    <a:pt x="813" y="616"/>
                    <a:pt x="813" y="616"/>
                  </a:cubicBezTo>
                  <a:cubicBezTo>
                    <a:pt x="862" y="628"/>
                    <a:pt x="888" y="645"/>
                    <a:pt x="933" y="656"/>
                  </a:cubicBezTo>
                  <a:cubicBezTo>
                    <a:pt x="954" y="697"/>
                    <a:pt x="971" y="692"/>
                    <a:pt x="989" y="728"/>
                  </a:cubicBezTo>
                  <a:cubicBezTo>
                    <a:pt x="1014" y="778"/>
                    <a:pt x="1045" y="825"/>
                    <a:pt x="1077" y="872"/>
                  </a:cubicBezTo>
                  <a:cubicBezTo>
                    <a:pt x="1085" y="883"/>
                    <a:pt x="1104" y="877"/>
                    <a:pt x="1117" y="880"/>
                  </a:cubicBezTo>
                  <a:cubicBezTo>
                    <a:pt x="1128" y="887"/>
                    <a:pt x="1157" y="918"/>
                    <a:pt x="1157" y="872"/>
                  </a:cubicBezTo>
                  <a:cubicBezTo>
                    <a:pt x="1157" y="850"/>
                    <a:pt x="1108" y="831"/>
                    <a:pt x="1093" y="824"/>
                  </a:cubicBezTo>
                  <a:cubicBezTo>
                    <a:pt x="1078" y="817"/>
                    <a:pt x="1061" y="813"/>
                    <a:pt x="1045" y="808"/>
                  </a:cubicBezTo>
                  <a:cubicBezTo>
                    <a:pt x="1009" y="796"/>
                    <a:pt x="971" y="758"/>
                    <a:pt x="933" y="744"/>
                  </a:cubicBezTo>
                  <a:cubicBezTo>
                    <a:pt x="899" y="732"/>
                    <a:pt x="857" y="726"/>
                    <a:pt x="821" y="720"/>
                  </a:cubicBezTo>
                  <a:cubicBezTo>
                    <a:pt x="578" y="769"/>
                    <a:pt x="702" y="752"/>
                    <a:pt x="261" y="744"/>
                  </a:cubicBezTo>
                  <a:cubicBezTo>
                    <a:pt x="234" y="748"/>
                    <a:pt x="200" y="741"/>
                    <a:pt x="181" y="760"/>
                  </a:cubicBezTo>
                  <a:cubicBezTo>
                    <a:pt x="167" y="774"/>
                    <a:pt x="149" y="808"/>
                    <a:pt x="149" y="808"/>
                  </a:cubicBezTo>
                  <a:cubicBezTo>
                    <a:pt x="146" y="800"/>
                    <a:pt x="146" y="791"/>
                    <a:pt x="141" y="784"/>
                  </a:cubicBezTo>
                  <a:cubicBezTo>
                    <a:pt x="135" y="776"/>
                    <a:pt x="118" y="778"/>
                    <a:pt x="117" y="768"/>
                  </a:cubicBezTo>
                  <a:cubicBezTo>
                    <a:pt x="107" y="706"/>
                    <a:pt x="124" y="668"/>
                    <a:pt x="157" y="624"/>
                  </a:cubicBezTo>
                  <a:cubicBezTo>
                    <a:pt x="171" y="582"/>
                    <a:pt x="199" y="546"/>
                    <a:pt x="213" y="504"/>
                  </a:cubicBezTo>
                  <a:cubicBezTo>
                    <a:pt x="220" y="483"/>
                    <a:pt x="229" y="440"/>
                    <a:pt x="229" y="440"/>
                  </a:cubicBezTo>
                  <a:cubicBezTo>
                    <a:pt x="225" y="407"/>
                    <a:pt x="229" y="329"/>
                    <a:pt x="197" y="304"/>
                  </a:cubicBezTo>
                  <a:cubicBezTo>
                    <a:pt x="181" y="291"/>
                    <a:pt x="145" y="279"/>
                    <a:pt x="125" y="272"/>
                  </a:cubicBezTo>
                  <a:cubicBezTo>
                    <a:pt x="104" y="275"/>
                    <a:pt x="76" y="265"/>
                    <a:pt x="61" y="280"/>
                  </a:cubicBezTo>
                  <a:cubicBezTo>
                    <a:pt x="50" y="291"/>
                    <a:pt x="94" y="283"/>
                    <a:pt x="109" y="288"/>
                  </a:cubicBezTo>
                  <a:cubicBezTo>
                    <a:pt x="118" y="291"/>
                    <a:pt x="124" y="300"/>
                    <a:pt x="133" y="304"/>
                  </a:cubicBezTo>
                  <a:cubicBezTo>
                    <a:pt x="148" y="311"/>
                    <a:pt x="181" y="320"/>
                    <a:pt x="181" y="320"/>
                  </a:cubicBezTo>
                  <a:cubicBezTo>
                    <a:pt x="186" y="334"/>
                    <a:pt x="224" y="411"/>
                    <a:pt x="237" y="424"/>
                  </a:cubicBezTo>
                  <a:cubicBezTo>
                    <a:pt x="243" y="430"/>
                    <a:pt x="253" y="429"/>
                    <a:pt x="261" y="432"/>
                  </a:cubicBezTo>
                  <a:cubicBezTo>
                    <a:pt x="272" y="443"/>
                    <a:pt x="281" y="455"/>
                    <a:pt x="293" y="464"/>
                  </a:cubicBezTo>
                  <a:cubicBezTo>
                    <a:pt x="300" y="469"/>
                    <a:pt x="312" y="465"/>
                    <a:pt x="317" y="472"/>
                  </a:cubicBezTo>
                  <a:cubicBezTo>
                    <a:pt x="335" y="495"/>
                    <a:pt x="329" y="544"/>
                    <a:pt x="349" y="568"/>
                  </a:cubicBezTo>
                  <a:cubicBezTo>
                    <a:pt x="356" y="577"/>
                    <a:pt x="428" y="623"/>
                    <a:pt x="429" y="624"/>
                  </a:cubicBezTo>
                  <a:cubicBezTo>
                    <a:pt x="437" y="629"/>
                    <a:pt x="453" y="640"/>
                    <a:pt x="453" y="640"/>
                  </a:cubicBezTo>
                  <a:cubicBezTo>
                    <a:pt x="464" y="637"/>
                    <a:pt x="476" y="639"/>
                    <a:pt x="485" y="632"/>
                  </a:cubicBezTo>
                  <a:cubicBezTo>
                    <a:pt x="499" y="621"/>
                    <a:pt x="501" y="553"/>
                    <a:pt x="509" y="528"/>
                  </a:cubicBezTo>
                  <a:cubicBezTo>
                    <a:pt x="524" y="417"/>
                    <a:pt x="529" y="284"/>
                    <a:pt x="565" y="176"/>
                  </a:cubicBezTo>
                  <a:cubicBezTo>
                    <a:pt x="574" y="148"/>
                    <a:pt x="632" y="126"/>
                    <a:pt x="653" y="112"/>
                  </a:cubicBezTo>
                  <a:cubicBezTo>
                    <a:pt x="661" y="107"/>
                    <a:pt x="677" y="96"/>
                    <a:pt x="677" y="96"/>
                  </a:cubicBezTo>
                  <a:cubicBezTo>
                    <a:pt x="660" y="165"/>
                    <a:pt x="624" y="231"/>
                    <a:pt x="581" y="288"/>
                  </a:cubicBezTo>
                  <a:cubicBezTo>
                    <a:pt x="549" y="383"/>
                    <a:pt x="588" y="299"/>
                    <a:pt x="533" y="360"/>
                  </a:cubicBezTo>
                  <a:cubicBezTo>
                    <a:pt x="520" y="374"/>
                    <a:pt x="501" y="408"/>
                    <a:pt x="501" y="408"/>
                  </a:cubicBezTo>
                  <a:cubicBezTo>
                    <a:pt x="488" y="462"/>
                    <a:pt x="477" y="513"/>
                    <a:pt x="469" y="568"/>
                  </a:cubicBezTo>
                  <a:cubicBezTo>
                    <a:pt x="485" y="647"/>
                    <a:pt x="496" y="637"/>
                    <a:pt x="573" y="648"/>
                  </a:cubicBezTo>
                  <a:cubicBezTo>
                    <a:pt x="605" y="645"/>
                    <a:pt x="638" y="648"/>
                    <a:pt x="669" y="640"/>
                  </a:cubicBezTo>
                  <a:cubicBezTo>
                    <a:pt x="680" y="637"/>
                    <a:pt x="684" y="622"/>
                    <a:pt x="693" y="616"/>
                  </a:cubicBezTo>
                  <a:cubicBezTo>
                    <a:pt x="700" y="611"/>
                    <a:pt x="709" y="611"/>
                    <a:pt x="717" y="608"/>
                  </a:cubicBezTo>
                  <a:cubicBezTo>
                    <a:pt x="744" y="611"/>
                    <a:pt x="771" y="608"/>
                    <a:pt x="797" y="616"/>
                  </a:cubicBezTo>
                  <a:cubicBezTo>
                    <a:pt x="823" y="624"/>
                    <a:pt x="843" y="647"/>
                    <a:pt x="869" y="656"/>
                  </a:cubicBezTo>
                  <a:cubicBezTo>
                    <a:pt x="874" y="664"/>
                    <a:pt x="877" y="675"/>
                    <a:pt x="885" y="680"/>
                  </a:cubicBezTo>
                  <a:cubicBezTo>
                    <a:pt x="899" y="689"/>
                    <a:pt x="933" y="696"/>
                    <a:pt x="933" y="696"/>
                  </a:cubicBezTo>
                  <a:cubicBezTo>
                    <a:pt x="956" y="719"/>
                    <a:pt x="970" y="742"/>
                    <a:pt x="997" y="760"/>
                  </a:cubicBezTo>
                  <a:cubicBezTo>
                    <a:pt x="1012" y="805"/>
                    <a:pt x="1005" y="845"/>
                    <a:pt x="1045" y="872"/>
                  </a:cubicBezTo>
                  <a:cubicBezTo>
                    <a:pt x="1055" y="903"/>
                    <a:pt x="1061" y="917"/>
                    <a:pt x="1093" y="928"/>
                  </a:cubicBezTo>
                  <a:cubicBezTo>
                    <a:pt x="1113" y="959"/>
                    <a:pt x="1109" y="942"/>
                    <a:pt x="1109" y="97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3680520" y="15011280"/>
            <a:ext cx="9599760" cy="8838000"/>
            <a:chOff x="33680520" y="15011280"/>
            <a:chExt cx="9599760" cy="8838000"/>
          </a:xfrm>
        </p:grpSpPr>
        <p:sp>
          <p:nvSpPr>
            <p:cNvPr id="50" name=""/>
            <p:cNvSpPr/>
            <p:nvPr/>
          </p:nvSpPr>
          <p:spPr>
            <a:xfrm>
              <a:off x="34257960" y="15011280"/>
              <a:ext cx="764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3"/>
            <a:srcRect l="0" t="0" r="8947" b="0"/>
            <a:stretch/>
          </p:blipFill>
          <p:spPr>
            <a:xfrm>
              <a:off x="33680520" y="16004160"/>
              <a:ext cx="8578440" cy="78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8457000" y="18353520"/>
              <a:ext cx="4431960" cy="5180400"/>
            </a:xfrm>
            <a:custGeom>
              <a:avLst/>
              <a:gdLst/>
              <a:ahLst/>
              <a:rect l="l" t="t" r="r" b="b"/>
              <a:pathLst>
                <a:path w="668" h="919">
                  <a:moveTo>
                    <a:pt x="554" y="907"/>
                  </a:moveTo>
                  <a:cubicBezTo>
                    <a:pt x="601" y="814"/>
                    <a:pt x="548" y="734"/>
                    <a:pt x="498" y="659"/>
                  </a:cubicBezTo>
                  <a:cubicBezTo>
                    <a:pt x="480" y="633"/>
                    <a:pt x="477" y="613"/>
                    <a:pt x="450" y="595"/>
                  </a:cubicBezTo>
                  <a:cubicBezTo>
                    <a:pt x="431" y="567"/>
                    <a:pt x="418" y="558"/>
                    <a:pt x="386" y="547"/>
                  </a:cubicBezTo>
                  <a:cubicBezTo>
                    <a:pt x="331" y="552"/>
                    <a:pt x="287" y="560"/>
                    <a:pt x="234" y="571"/>
                  </a:cubicBezTo>
                  <a:cubicBezTo>
                    <a:pt x="203" y="587"/>
                    <a:pt x="180" y="602"/>
                    <a:pt x="146" y="611"/>
                  </a:cubicBezTo>
                  <a:cubicBezTo>
                    <a:pt x="91" y="694"/>
                    <a:pt x="179" y="570"/>
                    <a:pt x="98" y="651"/>
                  </a:cubicBezTo>
                  <a:cubicBezTo>
                    <a:pt x="55" y="694"/>
                    <a:pt x="130" y="662"/>
                    <a:pt x="66" y="683"/>
                  </a:cubicBezTo>
                  <a:cubicBezTo>
                    <a:pt x="58" y="691"/>
                    <a:pt x="48" y="697"/>
                    <a:pt x="42" y="707"/>
                  </a:cubicBezTo>
                  <a:cubicBezTo>
                    <a:pt x="37" y="717"/>
                    <a:pt x="26" y="731"/>
                    <a:pt x="34" y="739"/>
                  </a:cubicBezTo>
                  <a:cubicBezTo>
                    <a:pt x="41" y="746"/>
                    <a:pt x="45" y="723"/>
                    <a:pt x="50" y="715"/>
                  </a:cubicBezTo>
                  <a:cubicBezTo>
                    <a:pt x="51" y="709"/>
                    <a:pt x="57" y="656"/>
                    <a:pt x="66" y="643"/>
                  </a:cubicBezTo>
                  <a:cubicBezTo>
                    <a:pt x="97" y="597"/>
                    <a:pt x="133" y="588"/>
                    <a:pt x="178" y="563"/>
                  </a:cubicBezTo>
                  <a:cubicBezTo>
                    <a:pt x="283" y="504"/>
                    <a:pt x="264" y="516"/>
                    <a:pt x="410" y="507"/>
                  </a:cubicBezTo>
                  <a:cubicBezTo>
                    <a:pt x="544" y="480"/>
                    <a:pt x="568" y="334"/>
                    <a:pt x="634" y="235"/>
                  </a:cubicBezTo>
                  <a:cubicBezTo>
                    <a:pt x="645" y="189"/>
                    <a:pt x="615" y="0"/>
                    <a:pt x="642" y="107"/>
                  </a:cubicBezTo>
                  <a:cubicBezTo>
                    <a:pt x="625" y="158"/>
                    <a:pt x="641" y="219"/>
                    <a:pt x="594" y="251"/>
                  </a:cubicBezTo>
                  <a:cubicBezTo>
                    <a:pt x="577" y="303"/>
                    <a:pt x="557" y="337"/>
                    <a:pt x="522" y="379"/>
                  </a:cubicBezTo>
                  <a:cubicBezTo>
                    <a:pt x="507" y="397"/>
                    <a:pt x="501" y="419"/>
                    <a:pt x="482" y="435"/>
                  </a:cubicBezTo>
                  <a:cubicBezTo>
                    <a:pt x="451" y="462"/>
                    <a:pt x="412" y="477"/>
                    <a:pt x="378" y="499"/>
                  </a:cubicBezTo>
                  <a:cubicBezTo>
                    <a:pt x="352" y="538"/>
                    <a:pt x="343" y="521"/>
                    <a:pt x="306" y="539"/>
                  </a:cubicBezTo>
                  <a:cubicBezTo>
                    <a:pt x="260" y="562"/>
                    <a:pt x="223" y="571"/>
                    <a:pt x="170" y="579"/>
                  </a:cubicBezTo>
                  <a:cubicBezTo>
                    <a:pt x="132" y="598"/>
                    <a:pt x="94" y="619"/>
                    <a:pt x="58" y="643"/>
                  </a:cubicBezTo>
                  <a:cubicBezTo>
                    <a:pt x="47" y="659"/>
                    <a:pt x="32" y="673"/>
                    <a:pt x="26" y="691"/>
                  </a:cubicBezTo>
                  <a:cubicBezTo>
                    <a:pt x="21" y="707"/>
                    <a:pt x="10" y="739"/>
                    <a:pt x="10" y="739"/>
                  </a:cubicBezTo>
                  <a:cubicBezTo>
                    <a:pt x="13" y="760"/>
                    <a:pt x="0" y="791"/>
                    <a:pt x="18" y="803"/>
                  </a:cubicBezTo>
                  <a:cubicBezTo>
                    <a:pt x="18" y="803"/>
                    <a:pt x="38" y="743"/>
                    <a:pt x="42" y="731"/>
                  </a:cubicBezTo>
                  <a:cubicBezTo>
                    <a:pt x="56" y="690"/>
                    <a:pt x="79" y="657"/>
                    <a:pt x="122" y="643"/>
                  </a:cubicBezTo>
                  <a:cubicBezTo>
                    <a:pt x="155" y="610"/>
                    <a:pt x="179" y="573"/>
                    <a:pt x="218" y="547"/>
                  </a:cubicBezTo>
                  <a:cubicBezTo>
                    <a:pt x="238" y="518"/>
                    <a:pt x="261" y="510"/>
                    <a:pt x="290" y="491"/>
                  </a:cubicBezTo>
                  <a:cubicBezTo>
                    <a:pt x="365" y="500"/>
                    <a:pt x="421" y="510"/>
                    <a:pt x="474" y="563"/>
                  </a:cubicBezTo>
                  <a:cubicBezTo>
                    <a:pt x="496" y="629"/>
                    <a:pt x="458" y="527"/>
                    <a:pt x="530" y="635"/>
                  </a:cubicBezTo>
                  <a:cubicBezTo>
                    <a:pt x="557" y="676"/>
                    <a:pt x="580" y="719"/>
                    <a:pt x="610" y="755"/>
                  </a:cubicBezTo>
                  <a:cubicBezTo>
                    <a:pt x="631" y="780"/>
                    <a:pt x="630" y="792"/>
                    <a:pt x="642" y="827"/>
                  </a:cubicBezTo>
                  <a:cubicBezTo>
                    <a:pt x="645" y="835"/>
                    <a:pt x="650" y="851"/>
                    <a:pt x="650" y="851"/>
                  </a:cubicBezTo>
                  <a:cubicBezTo>
                    <a:pt x="647" y="859"/>
                    <a:pt x="642" y="867"/>
                    <a:pt x="642" y="875"/>
                  </a:cubicBezTo>
                  <a:cubicBezTo>
                    <a:pt x="642" y="909"/>
                    <a:pt x="668" y="919"/>
                    <a:pt x="626" y="891"/>
                  </a:cubicBezTo>
                  <a:cubicBezTo>
                    <a:pt x="668" y="849"/>
                    <a:pt x="645" y="851"/>
                    <a:pt x="626" y="803"/>
                  </a:cubicBezTo>
                  <a:cubicBezTo>
                    <a:pt x="612" y="768"/>
                    <a:pt x="612" y="701"/>
                    <a:pt x="586" y="675"/>
                  </a:cubicBezTo>
                  <a:cubicBezTo>
                    <a:pt x="578" y="667"/>
                    <a:pt x="564" y="665"/>
                    <a:pt x="554" y="659"/>
                  </a:cubicBezTo>
                  <a:cubicBezTo>
                    <a:pt x="517" y="636"/>
                    <a:pt x="481" y="606"/>
                    <a:pt x="442" y="587"/>
                  </a:cubicBezTo>
                  <a:cubicBezTo>
                    <a:pt x="423" y="577"/>
                    <a:pt x="406" y="564"/>
                    <a:pt x="386" y="555"/>
                  </a:cubicBezTo>
                  <a:cubicBezTo>
                    <a:pt x="371" y="548"/>
                    <a:pt x="338" y="539"/>
                    <a:pt x="338" y="539"/>
                  </a:cubicBezTo>
                  <a:cubicBezTo>
                    <a:pt x="317" y="542"/>
                    <a:pt x="295" y="541"/>
                    <a:pt x="274" y="547"/>
                  </a:cubicBezTo>
                  <a:cubicBezTo>
                    <a:pt x="242" y="556"/>
                    <a:pt x="232" y="592"/>
                    <a:pt x="210" y="611"/>
                  </a:cubicBezTo>
                  <a:cubicBezTo>
                    <a:pt x="185" y="633"/>
                    <a:pt x="134" y="672"/>
                    <a:pt x="106" y="691"/>
                  </a:cubicBezTo>
                  <a:cubicBezTo>
                    <a:pt x="87" y="720"/>
                    <a:pt x="69" y="718"/>
                    <a:pt x="50" y="747"/>
                  </a:cubicBezTo>
                  <a:cubicBezTo>
                    <a:pt x="60" y="705"/>
                    <a:pt x="75" y="701"/>
                    <a:pt x="106" y="675"/>
                  </a:cubicBezTo>
                  <a:cubicBezTo>
                    <a:pt x="150" y="637"/>
                    <a:pt x="188" y="594"/>
                    <a:pt x="242" y="571"/>
                  </a:cubicBezTo>
                  <a:cubicBezTo>
                    <a:pt x="275" y="557"/>
                    <a:pt x="312" y="556"/>
                    <a:pt x="346" y="547"/>
                  </a:cubicBezTo>
                  <a:cubicBezTo>
                    <a:pt x="407" y="506"/>
                    <a:pt x="429" y="464"/>
                    <a:pt x="482" y="411"/>
                  </a:cubicBezTo>
                  <a:cubicBezTo>
                    <a:pt x="563" y="330"/>
                    <a:pt x="439" y="418"/>
                    <a:pt x="522" y="363"/>
                  </a:cubicBezTo>
                  <a:cubicBezTo>
                    <a:pt x="548" y="324"/>
                    <a:pt x="555" y="288"/>
                    <a:pt x="562" y="243"/>
                  </a:cubicBezTo>
                  <a:cubicBezTo>
                    <a:pt x="565" y="190"/>
                    <a:pt x="563" y="136"/>
                    <a:pt x="570" y="83"/>
                  </a:cubicBezTo>
                  <a:cubicBezTo>
                    <a:pt x="571" y="73"/>
                    <a:pt x="586" y="59"/>
                    <a:pt x="586" y="59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7600" y="20806200"/>
              <a:ext cx="7132680" cy="2795040"/>
            </a:xfrm>
            <a:custGeom>
              <a:avLst/>
              <a:gdLst/>
              <a:ahLst/>
              <a:rect l="l" t="t" r="r" b="b"/>
              <a:pathLst>
                <a:path w="1075" h="496">
                  <a:moveTo>
                    <a:pt x="86" y="208"/>
                  </a:moveTo>
                  <a:cubicBezTo>
                    <a:pt x="74" y="280"/>
                    <a:pt x="46" y="292"/>
                    <a:pt x="6" y="352"/>
                  </a:cubicBezTo>
                  <a:cubicBezTo>
                    <a:pt x="1" y="359"/>
                    <a:pt x="12" y="336"/>
                    <a:pt x="14" y="328"/>
                  </a:cubicBezTo>
                  <a:cubicBezTo>
                    <a:pt x="38" y="243"/>
                    <a:pt x="0" y="362"/>
                    <a:pt x="38" y="248"/>
                  </a:cubicBezTo>
                  <a:cubicBezTo>
                    <a:pt x="53" y="204"/>
                    <a:pt x="121" y="205"/>
                    <a:pt x="158" y="200"/>
                  </a:cubicBezTo>
                  <a:cubicBezTo>
                    <a:pt x="215" y="181"/>
                    <a:pt x="260" y="182"/>
                    <a:pt x="310" y="216"/>
                  </a:cubicBezTo>
                  <a:cubicBezTo>
                    <a:pt x="343" y="265"/>
                    <a:pt x="320" y="228"/>
                    <a:pt x="302" y="216"/>
                  </a:cubicBezTo>
                  <a:cubicBezTo>
                    <a:pt x="295" y="211"/>
                    <a:pt x="250" y="201"/>
                    <a:pt x="246" y="200"/>
                  </a:cubicBezTo>
                  <a:cubicBezTo>
                    <a:pt x="195" y="208"/>
                    <a:pt x="134" y="220"/>
                    <a:pt x="94" y="256"/>
                  </a:cubicBezTo>
                  <a:cubicBezTo>
                    <a:pt x="77" y="271"/>
                    <a:pt x="62" y="288"/>
                    <a:pt x="46" y="304"/>
                  </a:cubicBezTo>
                  <a:cubicBezTo>
                    <a:pt x="39" y="311"/>
                    <a:pt x="34" y="319"/>
                    <a:pt x="30" y="328"/>
                  </a:cubicBezTo>
                  <a:cubicBezTo>
                    <a:pt x="26" y="336"/>
                    <a:pt x="22" y="360"/>
                    <a:pt x="22" y="352"/>
                  </a:cubicBezTo>
                  <a:cubicBezTo>
                    <a:pt x="22" y="342"/>
                    <a:pt x="46" y="225"/>
                    <a:pt x="46" y="224"/>
                  </a:cubicBezTo>
                  <a:cubicBezTo>
                    <a:pt x="52" y="212"/>
                    <a:pt x="67" y="208"/>
                    <a:pt x="78" y="200"/>
                  </a:cubicBezTo>
                  <a:cubicBezTo>
                    <a:pt x="132" y="161"/>
                    <a:pt x="198" y="158"/>
                    <a:pt x="262" y="152"/>
                  </a:cubicBezTo>
                  <a:cubicBezTo>
                    <a:pt x="288" y="135"/>
                    <a:pt x="315" y="126"/>
                    <a:pt x="342" y="112"/>
                  </a:cubicBezTo>
                  <a:cubicBezTo>
                    <a:pt x="369" y="99"/>
                    <a:pt x="391" y="78"/>
                    <a:pt x="422" y="72"/>
                  </a:cubicBezTo>
                  <a:cubicBezTo>
                    <a:pt x="565" y="43"/>
                    <a:pt x="415" y="80"/>
                    <a:pt x="510" y="56"/>
                  </a:cubicBezTo>
                  <a:cubicBezTo>
                    <a:pt x="523" y="59"/>
                    <a:pt x="536" y="63"/>
                    <a:pt x="550" y="64"/>
                  </a:cubicBezTo>
                  <a:cubicBezTo>
                    <a:pt x="595" y="68"/>
                    <a:pt x="641" y="65"/>
                    <a:pt x="686" y="72"/>
                  </a:cubicBezTo>
                  <a:cubicBezTo>
                    <a:pt x="696" y="73"/>
                    <a:pt x="701" y="84"/>
                    <a:pt x="710" y="88"/>
                  </a:cubicBezTo>
                  <a:cubicBezTo>
                    <a:pt x="725" y="95"/>
                    <a:pt x="758" y="104"/>
                    <a:pt x="758" y="104"/>
                  </a:cubicBezTo>
                  <a:cubicBezTo>
                    <a:pt x="777" y="133"/>
                    <a:pt x="797" y="135"/>
                    <a:pt x="822" y="160"/>
                  </a:cubicBezTo>
                  <a:cubicBezTo>
                    <a:pt x="840" y="213"/>
                    <a:pt x="877" y="236"/>
                    <a:pt x="918" y="272"/>
                  </a:cubicBezTo>
                  <a:cubicBezTo>
                    <a:pt x="926" y="280"/>
                    <a:pt x="933" y="289"/>
                    <a:pt x="942" y="296"/>
                  </a:cubicBezTo>
                  <a:cubicBezTo>
                    <a:pt x="957" y="308"/>
                    <a:pt x="990" y="328"/>
                    <a:pt x="990" y="328"/>
                  </a:cubicBezTo>
                  <a:cubicBezTo>
                    <a:pt x="1009" y="357"/>
                    <a:pt x="1029" y="359"/>
                    <a:pt x="1054" y="384"/>
                  </a:cubicBezTo>
                  <a:cubicBezTo>
                    <a:pt x="1075" y="447"/>
                    <a:pt x="1050" y="362"/>
                    <a:pt x="1038" y="352"/>
                  </a:cubicBezTo>
                  <a:cubicBezTo>
                    <a:pt x="1024" y="339"/>
                    <a:pt x="1006" y="331"/>
                    <a:pt x="990" y="320"/>
                  </a:cubicBezTo>
                  <a:cubicBezTo>
                    <a:pt x="982" y="315"/>
                    <a:pt x="966" y="304"/>
                    <a:pt x="966" y="304"/>
                  </a:cubicBezTo>
                  <a:cubicBezTo>
                    <a:pt x="950" y="255"/>
                    <a:pt x="965" y="285"/>
                    <a:pt x="894" y="232"/>
                  </a:cubicBezTo>
                  <a:cubicBezTo>
                    <a:pt x="886" y="226"/>
                    <a:pt x="885" y="215"/>
                    <a:pt x="878" y="208"/>
                  </a:cubicBezTo>
                  <a:cubicBezTo>
                    <a:pt x="815" y="145"/>
                    <a:pt x="896" y="247"/>
                    <a:pt x="830" y="168"/>
                  </a:cubicBezTo>
                  <a:cubicBezTo>
                    <a:pt x="824" y="161"/>
                    <a:pt x="822" y="150"/>
                    <a:pt x="814" y="144"/>
                  </a:cubicBezTo>
                  <a:cubicBezTo>
                    <a:pt x="807" y="139"/>
                    <a:pt x="797" y="140"/>
                    <a:pt x="790" y="136"/>
                  </a:cubicBezTo>
                  <a:cubicBezTo>
                    <a:pt x="707" y="90"/>
                    <a:pt x="772" y="114"/>
                    <a:pt x="718" y="96"/>
                  </a:cubicBezTo>
                  <a:cubicBezTo>
                    <a:pt x="541" y="116"/>
                    <a:pt x="360" y="87"/>
                    <a:pt x="198" y="168"/>
                  </a:cubicBezTo>
                  <a:cubicBezTo>
                    <a:pt x="190" y="179"/>
                    <a:pt x="183" y="191"/>
                    <a:pt x="174" y="200"/>
                  </a:cubicBezTo>
                  <a:cubicBezTo>
                    <a:pt x="167" y="207"/>
                    <a:pt x="156" y="209"/>
                    <a:pt x="150" y="216"/>
                  </a:cubicBezTo>
                  <a:cubicBezTo>
                    <a:pt x="134" y="236"/>
                    <a:pt x="137" y="255"/>
                    <a:pt x="118" y="272"/>
                  </a:cubicBezTo>
                  <a:cubicBezTo>
                    <a:pt x="104" y="285"/>
                    <a:pt x="70" y="304"/>
                    <a:pt x="70" y="304"/>
                  </a:cubicBezTo>
                  <a:cubicBezTo>
                    <a:pt x="94" y="269"/>
                    <a:pt x="117" y="250"/>
                    <a:pt x="158" y="240"/>
                  </a:cubicBezTo>
                  <a:cubicBezTo>
                    <a:pt x="184" y="223"/>
                    <a:pt x="209" y="218"/>
                    <a:pt x="238" y="208"/>
                  </a:cubicBezTo>
                  <a:cubicBezTo>
                    <a:pt x="254" y="211"/>
                    <a:pt x="270" y="212"/>
                    <a:pt x="286" y="216"/>
                  </a:cubicBezTo>
                  <a:cubicBezTo>
                    <a:pt x="294" y="218"/>
                    <a:pt x="318" y="224"/>
                    <a:pt x="310" y="224"/>
                  </a:cubicBezTo>
                  <a:cubicBezTo>
                    <a:pt x="260" y="224"/>
                    <a:pt x="218" y="192"/>
                    <a:pt x="174" y="176"/>
                  </a:cubicBezTo>
                  <a:cubicBezTo>
                    <a:pt x="153" y="168"/>
                    <a:pt x="131" y="167"/>
                    <a:pt x="110" y="160"/>
                  </a:cubicBezTo>
                  <a:cubicBezTo>
                    <a:pt x="51" y="175"/>
                    <a:pt x="73" y="194"/>
                    <a:pt x="62" y="256"/>
                  </a:cubicBezTo>
                  <a:cubicBezTo>
                    <a:pt x="60" y="264"/>
                    <a:pt x="58" y="272"/>
                    <a:pt x="54" y="280"/>
                  </a:cubicBezTo>
                  <a:cubicBezTo>
                    <a:pt x="50" y="289"/>
                    <a:pt x="34" y="295"/>
                    <a:pt x="38" y="304"/>
                  </a:cubicBezTo>
                  <a:cubicBezTo>
                    <a:pt x="42" y="312"/>
                    <a:pt x="54" y="300"/>
                    <a:pt x="62" y="296"/>
                  </a:cubicBezTo>
                  <a:cubicBezTo>
                    <a:pt x="124" y="265"/>
                    <a:pt x="50" y="292"/>
                    <a:pt x="110" y="272"/>
                  </a:cubicBezTo>
                  <a:cubicBezTo>
                    <a:pt x="122" y="236"/>
                    <a:pt x="149" y="231"/>
                    <a:pt x="174" y="200"/>
                  </a:cubicBezTo>
                  <a:cubicBezTo>
                    <a:pt x="221" y="142"/>
                    <a:pt x="183" y="160"/>
                    <a:pt x="230" y="144"/>
                  </a:cubicBezTo>
                  <a:cubicBezTo>
                    <a:pt x="241" y="136"/>
                    <a:pt x="250" y="127"/>
                    <a:pt x="262" y="120"/>
                  </a:cubicBezTo>
                  <a:cubicBezTo>
                    <a:pt x="269" y="116"/>
                    <a:pt x="280" y="117"/>
                    <a:pt x="286" y="112"/>
                  </a:cubicBezTo>
                  <a:cubicBezTo>
                    <a:pt x="314" y="89"/>
                    <a:pt x="318" y="63"/>
                    <a:pt x="358" y="56"/>
                  </a:cubicBezTo>
                  <a:cubicBezTo>
                    <a:pt x="395" y="49"/>
                    <a:pt x="470" y="40"/>
                    <a:pt x="470" y="40"/>
                  </a:cubicBezTo>
                  <a:cubicBezTo>
                    <a:pt x="530" y="0"/>
                    <a:pt x="604" y="23"/>
                    <a:pt x="670" y="40"/>
                  </a:cubicBezTo>
                  <a:cubicBezTo>
                    <a:pt x="713" y="104"/>
                    <a:pt x="681" y="81"/>
                    <a:pt x="742" y="96"/>
                  </a:cubicBezTo>
                  <a:cubicBezTo>
                    <a:pt x="750" y="98"/>
                    <a:pt x="758" y="101"/>
                    <a:pt x="766" y="104"/>
                  </a:cubicBezTo>
                  <a:cubicBezTo>
                    <a:pt x="781" y="119"/>
                    <a:pt x="799" y="129"/>
                    <a:pt x="814" y="144"/>
                  </a:cubicBezTo>
                  <a:cubicBezTo>
                    <a:pt x="842" y="172"/>
                    <a:pt x="847" y="195"/>
                    <a:pt x="886" y="208"/>
                  </a:cubicBezTo>
                  <a:cubicBezTo>
                    <a:pt x="896" y="248"/>
                    <a:pt x="899" y="282"/>
                    <a:pt x="942" y="296"/>
                  </a:cubicBezTo>
                  <a:cubicBezTo>
                    <a:pt x="956" y="338"/>
                    <a:pt x="945" y="313"/>
                    <a:pt x="982" y="368"/>
                  </a:cubicBezTo>
                  <a:cubicBezTo>
                    <a:pt x="987" y="376"/>
                    <a:pt x="998" y="392"/>
                    <a:pt x="998" y="392"/>
                  </a:cubicBezTo>
                  <a:cubicBezTo>
                    <a:pt x="995" y="408"/>
                    <a:pt x="1006" y="440"/>
                    <a:pt x="990" y="440"/>
                  </a:cubicBezTo>
                  <a:cubicBezTo>
                    <a:pt x="971" y="440"/>
                    <a:pt x="972" y="406"/>
                    <a:pt x="958" y="392"/>
                  </a:cubicBezTo>
                  <a:cubicBezTo>
                    <a:pt x="950" y="384"/>
                    <a:pt x="941" y="377"/>
                    <a:pt x="934" y="368"/>
                  </a:cubicBezTo>
                  <a:cubicBezTo>
                    <a:pt x="922" y="353"/>
                    <a:pt x="917" y="332"/>
                    <a:pt x="902" y="320"/>
                  </a:cubicBezTo>
                  <a:cubicBezTo>
                    <a:pt x="889" y="309"/>
                    <a:pt x="874" y="300"/>
                    <a:pt x="862" y="288"/>
                  </a:cubicBezTo>
                  <a:cubicBezTo>
                    <a:pt x="855" y="281"/>
                    <a:pt x="853" y="270"/>
                    <a:pt x="846" y="264"/>
                  </a:cubicBezTo>
                  <a:cubicBezTo>
                    <a:pt x="837" y="256"/>
                    <a:pt x="824" y="255"/>
                    <a:pt x="814" y="248"/>
                  </a:cubicBezTo>
                  <a:cubicBezTo>
                    <a:pt x="779" y="223"/>
                    <a:pt x="747" y="193"/>
                    <a:pt x="710" y="168"/>
                  </a:cubicBezTo>
                  <a:cubicBezTo>
                    <a:pt x="677" y="146"/>
                    <a:pt x="684" y="117"/>
                    <a:pt x="646" y="104"/>
                  </a:cubicBezTo>
                  <a:cubicBezTo>
                    <a:pt x="619" y="63"/>
                    <a:pt x="612" y="76"/>
                    <a:pt x="566" y="80"/>
                  </a:cubicBezTo>
                  <a:cubicBezTo>
                    <a:pt x="521" y="84"/>
                    <a:pt x="475" y="85"/>
                    <a:pt x="430" y="88"/>
                  </a:cubicBezTo>
                  <a:cubicBezTo>
                    <a:pt x="396" y="99"/>
                    <a:pt x="360" y="101"/>
                    <a:pt x="326" y="112"/>
                  </a:cubicBezTo>
                  <a:cubicBezTo>
                    <a:pt x="262" y="209"/>
                    <a:pt x="215" y="229"/>
                    <a:pt x="110" y="264"/>
                  </a:cubicBezTo>
                  <a:cubicBezTo>
                    <a:pt x="102" y="272"/>
                    <a:pt x="86" y="277"/>
                    <a:pt x="86" y="288"/>
                  </a:cubicBezTo>
                  <a:cubicBezTo>
                    <a:pt x="86" y="298"/>
                    <a:pt x="102" y="277"/>
                    <a:pt x="110" y="272"/>
                  </a:cubicBezTo>
                  <a:cubicBezTo>
                    <a:pt x="120" y="266"/>
                    <a:pt x="131" y="260"/>
                    <a:pt x="142" y="256"/>
                  </a:cubicBezTo>
                  <a:cubicBezTo>
                    <a:pt x="199" y="235"/>
                    <a:pt x="251" y="207"/>
                    <a:pt x="310" y="192"/>
                  </a:cubicBezTo>
                  <a:cubicBezTo>
                    <a:pt x="315" y="200"/>
                    <a:pt x="325" y="206"/>
                    <a:pt x="326" y="216"/>
                  </a:cubicBezTo>
                  <a:cubicBezTo>
                    <a:pt x="328" y="227"/>
                    <a:pt x="328" y="253"/>
                    <a:pt x="318" y="248"/>
                  </a:cubicBezTo>
                  <a:cubicBezTo>
                    <a:pt x="306" y="242"/>
                    <a:pt x="318" y="219"/>
                    <a:pt x="310" y="208"/>
                  </a:cubicBezTo>
                  <a:cubicBezTo>
                    <a:pt x="296" y="189"/>
                    <a:pt x="235" y="179"/>
                    <a:pt x="214" y="168"/>
                  </a:cubicBezTo>
                  <a:cubicBezTo>
                    <a:pt x="186" y="126"/>
                    <a:pt x="176" y="146"/>
                    <a:pt x="134" y="160"/>
                  </a:cubicBezTo>
                  <a:cubicBezTo>
                    <a:pt x="133" y="161"/>
                    <a:pt x="95" y="216"/>
                    <a:pt x="102" y="216"/>
                  </a:cubicBezTo>
                  <a:cubicBezTo>
                    <a:pt x="117" y="216"/>
                    <a:pt x="122" y="193"/>
                    <a:pt x="134" y="184"/>
                  </a:cubicBezTo>
                  <a:cubicBezTo>
                    <a:pt x="164" y="162"/>
                    <a:pt x="211" y="156"/>
                    <a:pt x="246" y="144"/>
                  </a:cubicBezTo>
                  <a:cubicBezTo>
                    <a:pt x="278" y="119"/>
                    <a:pt x="304" y="85"/>
                    <a:pt x="342" y="72"/>
                  </a:cubicBezTo>
                  <a:cubicBezTo>
                    <a:pt x="401" y="28"/>
                    <a:pt x="453" y="18"/>
                    <a:pt x="526" y="8"/>
                  </a:cubicBezTo>
                  <a:cubicBezTo>
                    <a:pt x="597" y="17"/>
                    <a:pt x="662" y="26"/>
                    <a:pt x="734" y="32"/>
                  </a:cubicBezTo>
                  <a:cubicBezTo>
                    <a:pt x="758" y="48"/>
                    <a:pt x="782" y="56"/>
                    <a:pt x="806" y="72"/>
                  </a:cubicBezTo>
                  <a:cubicBezTo>
                    <a:pt x="832" y="111"/>
                    <a:pt x="844" y="148"/>
                    <a:pt x="886" y="176"/>
                  </a:cubicBezTo>
                  <a:cubicBezTo>
                    <a:pt x="889" y="184"/>
                    <a:pt x="888" y="194"/>
                    <a:pt x="894" y="200"/>
                  </a:cubicBezTo>
                  <a:cubicBezTo>
                    <a:pt x="900" y="206"/>
                    <a:pt x="914" y="200"/>
                    <a:pt x="918" y="208"/>
                  </a:cubicBezTo>
                  <a:cubicBezTo>
                    <a:pt x="930" y="232"/>
                    <a:pt x="927" y="262"/>
                    <a:pt x="934" y="288"/>
                  </a:cubicBezTo>
                  <a:cubicBezTo>
                    <a:pt x="937" y="301"/>
                    <a:pt x="938" y="315"/>
                    <a:pt x="942" y="328"/>
                  </a:cubicBezTo>
                  <a:cubicBezTo>
                    <a:pt x="946" y="344"/>
                    <a:pt x="958" y="376"/>
                    <a:pt x="958" y="376"/>
                  </a:cubicBezTo>
                  <a:cubicBezTo>
                    <a:pt x="962" y="415"/>
                    <a:pt x="974" y="457"/>
                    <a:pt x="974" y="49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85800" y="960120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st my probl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’s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92568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Do we have anyt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feel we need more on the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am so not cre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707720"/>
            <a:ext cx="1310616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ffffff"/>
                </a:solidFill>
                <a:latin typeface="Arial"/>
              </a:rPr>
              <a:t>Design Spec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ets go look at the good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y had good spec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at’s all I go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375600" y="24612480"/>
            <a:ext cx="906768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ook what I could d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in the fut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3520" y="457200"/>
            <a:ext cx="7695720" cy="5714640"/>
            <a:chOff x="533520" y="457200"/>
            <a:chExt cx="7695720" cy="5714640"/>
          </a:xfrm>
        </p:grpSpPr>
        <p:sp>
          <p:nvSpPr>
            <p:cNvPr id="59" name=""/>
            <p:cNvSpPr/>
            <p:nvPr/>
          </p:nvSpPr>
          <p:spPr>
            <a:xfrm flipV="1">
              <a:off x="2610720" y="3368520"/>
              <a:ext cx="765360" cy="251064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7080" y="702000"/>
              <a:ext cx="1746000" cy="208476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14920" y="3366000"/>
              <a:ext cx="1492200" cy="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83840" y="3368520"/>
              <a:ext cx="1340280" cy="5979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cubicBezTo>
                    <a:pt x="20" y="164"/>
                    <a:pt x="40" y="88"/>
                    <a:pt x="96" y="48"/>
                  </a:cubicBezTo>
                  <a:cubicBezTo>
                    <a:pt x="152" y="8"/>
                    <a:pt x="244" y="4"/>
                    <a:pt x="336" y="0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03440" y="2779920"/>
              <a:ext cx="1367640" cy="351720"/>
            </a:xfrm>
            <a:custGeom>
              <a:avLst/>
              <a:gdLst/>
              <a:ahLst/>
              <a:rect l="l" t="t" r="r" b="b"/>
              <a:pathLst>
                <a:path w="343" h="141">
                  <a:moveTo>
                    <a:pt x="0" y="0"/>
                  </a:moveTo>
                  <a:cubicBezTo>
                    <a:pt x="9" y="15"/>
                    <a:pt x="30" y="63"/>
                    <a:pt x="55" y="85"/>
                  </a:cubicBezTo>
                  <a:cubicBezTo>
                    <a:pt x="80" y="107"/>
                    <a:pt x="103" y="125"/>
                    <a:pt x="151" y="133"/>
                  </a:cubicBezTo>
                  <a:cubicBezTo>
                    <a:pt x="199" y="141"/>
                    <a:pt x="311" y="133"/>
                    <a:pt x="343" y="133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520" y="457200"/>
              <a:ext cx="1148400" cy="27828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288" y="112"/>
                  </a:moveTo>
                  <a:cubicBezTo>
                    <a:pt x="264" y="72"/>
                    <a:pt x="240" y="32"/>
                    <a:pt x="192" y="16"/>
                  </a:cubicBezTo>
                  <a:cubicBezTo>
                    <a:pt x="144" y="0"/>
                    <a:pt x="72" y="8"/>
                    <a:pt x="0" y="16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321880" y="2849040"/>
              <a:ext cx="378000" cy="51696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9320" y="2842200"/>
              <a:ext cx="1490400" cy="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7400" y="3366000"/>
              <a:ext cx="1422720" cy="248940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656400" y="4561560"/>
              <a:ext cx="765360" cy="23940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1160" y="3121200"/>
              <a:ext cx="865080" cy="1470240"/>
            </a:xfrm>
            <a:custGeom>
              <a:avLst/>
              <a:gdLst/>
              <a:ahLst/>
              <a:rect l="l" t="t" r="r" b="b"/>
              <a:pathLst>
                <a:path w="178" h="598">
                  <a:moveTo>
                    <a:pt x="0" y="0"/>
                  </a:moveTo>
                  <a:lnTo>
                    <a:pt x="178" y="598"/>
                  </a:ln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37640" y="3041280"/>
              <a:ext cx="1191600" cy="55584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0" y="89"/>
                  </a:moveTo>
                  <a:cubicBezTo>
                    <a:pt x="7" y="76"/>
                    <a:pt x="15" y="22"/>
                    <a:pt x="37" y="11"/>
                  </a:cubicBezTo>
                  <a:cubicBezTo>
                    <a:pt x="59" y="0"/>
                    <a:pt x="96" y="8"/>
                    <a:pt x="129" y="24"/>
                  </a:cubicBezTo>
                  <a:cubicBezTo>
                    <a:pt x="162" y="40"/>
                    <a:pt x="205" y="72"/>
                    <a:pt x="233" y="105"/>
                  </a:cubicBezTo>
                  <a:cubicBezTo>
                    <a:pt x="261" y="138"/>
                    <a:pt x="285" y="198"/>
                    <a:pt x="299" y="223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4560" y="3321000"/>
              <a:ext cx="414360" cy="22212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0" y="89"/>
                  </a:moveTo>
                  <a:cubicBezTo>
                    <a:pt x="1" y="78"/>
                    <a:pt x="5" y="37"/>
                    <a:pt x="15" y="22"/>
                  </a:cubicBezTo>
                  <a:cubicBezTo>
                    <a:pt x="25" y="7"/>
                    <a:pt x="44" y="0"/>
                    <a:pt x="59" y="0"/>
                  </a:cubicBezTo>
                  <a:cubicBezTo>
                    <a:pt x="74" y="0"/>
                    <a:pt x="95" y="17"/>
                    <a:pt x="104" y="22"/>
                  </a:cubicBezTo>
                </a:path>
              </a:pathLst>
            </a:custGeom>
            <a:noFill/>
            <a:ln w="254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32560" y="2548440"/>
              <a:ext cx="1148040" cy="358812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4720" y="3537720"/>
              <a:ext cx="640800" cy="2634120"/>
            </a:xfrm>
            <a:prstGeom prst="line">
              <a:avLst/>
            </a:prstGeom>
            <a:ln w="254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5011280" y="3733920"/>
            <a:ext cx="34594920" cy="15238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62485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Becky</cp:lastModifiedBy>
  <dcterms:modified xsi:type="dcterms:W3CDTF">2008-11-20T05:27:04Z</dcterms:modified>
  <cp:revision>2</cp:revision>
  <dc:subject/>
  <dc:title>Slide 1</dc:title>
</cp:coreProperties>
</file>